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29.png" ContentType="image/png"/>
  <Override PartName="/ppt/media/image15.png" ContentType="image/png"/>
  <Override PartName="/ppt/media/image3.jpeg" ContentType="image/jpeg"/>
  <Override PartName="/ppt/media/image30.jpeg" ContentType="image/jpeg"/>
  <Override PartName="/ppt/media/image4.png" ContentType="image/png"/>
  <Override PartName="/ppt/media/image27.jpeg" ContentType="image/jpeg"/>
  <Override PartName="/ppt/media/image8.png" ContentType="image/png"/>
  <Override PartName="/ppt/media/image13.png" ContentType="image/png"/>
  <Override PartName="/ppt/media/image7.png" ContentType="image/png"/>
  <Override PartName="/ppt/media/image1.jpeg" ContentType="image/jpeg"/>
  <Override PartName="/ppt/media/image12.png" ContentType="image/png"/>
  <Override PartName="/ppt/media/image5.png" ContentType="image/png"/>
  <Override PartName="/ppt/media/image2.png" ContentType="image/png"/>
  <Override PartName="/ppt/media/image25.png" ContentType="image/png"/>
  <Override PartName="/ppt/media/image9.jpeg" ContentType="image/jpeg"/>
  <Override PartName="/ppt/media/image10.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11.jpeg" ContentType="image/jpeg"/>
  <Override PartName="/ppt/media/image24.png" ContentType="image/pn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 id="286" r:id="rId58"/>
    <p:sldId id="287" r:id="rId59"/>
    <p:sldId id="288" r:id="rId60"/>
    <p:sldId id="289" r:id="rId61"/>
    <p:sldId id="290" r:id="rId62"/>
    <p:sldId id="291" r:id="rId63"/>
    <p:sldId id="292" r:id="rId64"/>
    <p:sldId id="293"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slide" Target="slides/slide31.xml"/><Relationship Id="rId59" Type="http://schemas.openxmlformats.org/officeDocument/2006/relationships/slide" Target="slides/slide32.xml"/><Relationship Id="rId60" Type="http://schemas.openxmlformats.org/officeDocument/2006/relationships/slide" Target="slides/slide33.xml"/><Relationship Id="rId61" Type="http://schemas.openxmlformats.org/officeDocument/2006/relationships/slide" Target="slides/slide34.xml"/><Relationship Id="rId62" Type="http://schemas.openxmlformats.org/officeDocument/2006/relationships/slide" Target="slides/slide35.xml"/><Relationship Id="rId63" Type="http://schemas.openxmlformats.org/officeDocument/2006/relationships/slide" Target="slides/slide36.xml"/><Relationship Id="rId64" Type="http://schemas.openxmlformats.org/officeDocument/2006/relationships/slide" Target="slides/slide37.xml"/><Relationship Id="rId65" Type="http://schemas.openxmlformats.org/officeDocument/2006/relationships/slide" Target="slides/slide38.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9"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16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2"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3"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7C987-169C-4CE3-B66F-DBDADA9E7E5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143000" y="685800"/>
            <a:ext cx="4572000" cy="3429000"/>
          </a:xfrm>
          <a:prstGeom prst="rect">
            <a:avLst/>
          </a:prstGeom>
          <a:ln w="0">
            <a:noFill/>
          </a:ln>
        </p:spPr>
      </p:sp>
      <p:sp>
        <p:nvSpPr>
          <p:cNvPr id="1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7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86AB-095A-4893-9912-C680C7D043AA}"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C55FD-27D9-485B-8968-71303C782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77D82-B819-4E51-A128-FFF5D967F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0E0ADB-5DFF-4440-8189-C26F0036B4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ACD54F-CB79-4890-8302-E0BB27387A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B9449D-8307-4EAA-B986-D1E2352A0B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A416CF-799B-46DC-877D-9186E3350A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9B8B1C-7840-4855-8C07-1B5500C7A5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AD1C29-EA7D-4E1A-BF18-40A246F9B3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08DD37-891F-4ADF-9787-3A8A97B544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86022D-66FD-48D0-A2F3-93697CACE3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28B998-4101-4018-A513-A4754E9BAB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3BFA8D-FB8C-4CC3-91B5-62416E02C7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74764-84FF-492B-8C11-321717E57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68E15C-7323-4AE1-B634-C086D5F6A7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1AB10D-26A8-4961-BC33-B52B23E5BB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780A33-4088-4E52-B0A3-E727F58B49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384564-9469-4864-A95F-53F033A67A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9AE735-A64E-4E2B-B0C3-D0C52C1DF5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777175-53C6-43B9-925C-8B53F8835A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913475-F5F0-4267-A51F-672A9085C9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FC54CE-48AE-4FC7-872B-7181B7BF3D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0BA9F9-7E3C-455A-BF06-0EEFE166CE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E9EF47-3DAE-4CB3-B02C-65EA90A6E3C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FEB55-2E66-4328-BB71-85BF1647E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21C9E9-1FDD-4B50-9076-06416CFB0B7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886917-296B-419E-97B8-51AD82BC72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3DD861-6E90-4A53-A06C-CBCE1F3C9A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6FC597-0FD5-4DD5-89C6-081DE9C721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A0403A-59D8-40BC-90B7-338D6040F5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83E952-515D-4437-AAE3-FEC783B943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D203E9-2668-4F0F-9554-A8F55AAAE4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8A75AE-3507-4ECA-AB42-B7C453DC64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1D64FD-5000-40E6-821B-F72EBF88E9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9C0ECA-B2DA-4E6D-A278-298FCE6421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1E219AD-A6D3-4CD9-A728-9208A8EE3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B1642C-CF82-4451-B06B-4CFC82D1B9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7AAB11C-E75A-41F8-97FB-B7C0373C387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ECB70F-B454-4F23-83DC-9E628C2EF1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F3309A-B893-446B-954E-C3BA8A57DAA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7F8068-CEE9-46D0-B310-2540720572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9DC843-C8B3-41BB-A68E-C386066B0A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B2751E-F7CF-4E4C-BA03-9FF4118C7C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EC8710-66E0-4344-822F-0F34B5E56B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112634-67EA-4BED-936E-B116C02C68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1F9CE9-F222-4F97-9095-D965CB8222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43B0F3-2616-4FEF-9298-629689BE1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7D86F4-1694-4139-87B4-91165FB367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34269B-4A02-4283-9C98-363F7B48F6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C15427-DD3A-4A68-A46D-41E5ACD770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5B47E9-1491-49B2-AC7A-5BA80BA18A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DFE9318-ACE7-4EDE-845D-CA1DF2924A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976B940-57EB-43F4-8BFF-C2FB5B2E907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5A6BC0-5EDC-4DDF-B5BF-E7B5783B5BD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11A44B-8927-43FA-A097-8FF711C05C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A69F4B3-59A2-446A-969D-A70E27DB76F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78AF16A-683D-4932-8A95-1ABEB90671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2EC9BF3-18B9-4BCB-B1CD-7047D8B80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3FE64D6-44F9-4038-85FA-FE26369DF2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2C7912-67A4-4F18-95B5-23D4383CC9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1BEA2D-3B2A-4EF6-B1C9-C73DCF93D2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03074D-0943-4D51-A60A-88AE7082D4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8C4F34-2659-4638-B51A-CEAE5DD61CD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288BCFE-9519-40D8-AC4F-8787F79CA68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F3C9E4E-D6D0-4A2C-9000-BA696A69684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4C76FFA-56E1-46C8-9A39-97E544E2746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21E0F9-79D5-4661-BBBE-2438F5538C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D0FBB65-4CCC-46FA-B8CF-A7CE903B412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CBA36B9-B0DE-40E8-94A1-4431085C7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2A5C64D-2F64-4B4B-903D-21031ACA3C3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92F27A4-1CC8-4A5C-BFBB-10D93BDA9C8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672F3ED-A705-419D-A0BE-44FEAA0D3CA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BEAA4D-B932-4E4D-BEDC-0DE62DF8C0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194E50A-9A5D-4ABB-8773-760C6490B8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71B33E-D79E-4574-B3F1-08D202F78B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1195D60-D34E-488D-8522-BDAF510512C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02245AF-1F2E-4EC4-AEBE-EB93C975483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9733876-4245-4381-96C9-0BBE1F2F990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8C706EC-8E2D-4E14-A345-994073CD58E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5D4C8C-11E0-46EC-88EB-41E220567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E216420-A5D9-44F1-9F31-14C2F90233B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0F578C6-6C3D-43BA-984B-EC42B39DD8F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D36B0D5-00C2-4838-8696-0F71E4A6F56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EE357FB-F040-47FB-86F4-A835539B312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57BCCA7-F008-46F3-91D2-D1AEA7DB0A7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9A85A7-FF13-4CA8-BAFB-EBCAF5DADB4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4E0ACB-622D-46B6-81B3-438EF77C03A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18BC4C5-CD9C-4402-A966-4E0B178C0C0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DA9905D-9284-4D8C-996E-FC781A2A576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4227212-9812-44C4-AC3E-BACE7BE6F95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117F55-FB45-49AD-B14D-17F257341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AEFDE06-5F95-4916-8F13-9EE2B5CD96C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E74C48F-B122-4251-85CC-2AB2242BCB1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9E8AC80-E10F-4A70-B7D2-40BAA261C50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2B056A0-4D0E-4859-8848-16BB1197147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73223BB-24E5-4C3D-B398-E369AB814A3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D7F4809-055A-4C1D-AB59-3C5E41F12ED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7EBB94D-B672-4E03-8163-41A808AE89D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494AC85-A125-426D-AC13-DE124D4B848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6361B9D-AA72-4125-821E-92B8F5412C3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9D064FA-C259-402C-9FC7-BF359EF5AB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C4395F9-D536-4883-95C5-36A31430E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F36376A-A259-4DA5-B1EB-A6ADF924F15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FBC3996-E43F-4F1E-B8B4-F60ADD2DEAC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D2DF313-E76C-43E9-BCEC-6CAF720885B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A0827D3-A187-4299-A367-01446DF8B55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92558BB-0751-404B-BB57-26027D7658B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CA88C23-3213-417A-B30A-0EC4A399048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6F01613-0ADB-4F33-AD2B-ABF8583135F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99CC6F8-AAF0-4BFD-B117-3A59E0A783F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81531C2-BFA3-4B24-99BE-D3EA50AB2C0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5C9F1CE-EE02-47E6-9E93-4FDBBC4107A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9643F-5C5D-40DA-B3C9-EF834EC33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3A7800-6E73-4E16-8B8D-AC19801A0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EC25F99-0C10-42CB-BA16-1CACAE1E7B7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E3583B6-A5E9-4D11-AFEB-5D16BF0D3E5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0A34686-B05B-466A-BC84-B624E59F7E7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A50397E-A0EE-49D2-8952-5762AF34527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32BC220-407C-4572-AC0D-3B0D0F8809B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DD425A8-482E-4C74-BB77-6A17A342671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5B13681-FD06-42D6-9040-721394E5253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6A4A842-EA26-4646-B92D-5BA0B0E5E71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06B6E33-767D-44A4-BD2E-5DDD4C5D58B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9C07CFA-6B74-41D5-BB5B-2619576BAFF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01F724-8EF0-4D93-85D5-D19730939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12D6069-8817-4E93-B091-F2C72BE4456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BBF85C7-505F-4736-B9DE-B30A15918EC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843F79E-C7D2-46A7-B482-E3595229400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07B638B-4329-4072-9EB3-312E048369F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7BE12C1-B15C-43BC-989A-D687587550F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650F9E9-2438-4D39-9F52-45CA8C99E49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4D99A03-7996-465A-A2C5-D95CFC7D3D6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CD27D01-7F09-4340-BFE6-B6796648CC2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DEEAE5B-B333-4FAB-B21C-98273C64B5A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6C0EB00-F749-4A76-8456-FB5BF92E4A1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4364D62-D48A-4792-9411-F6D1DE132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DEF946F-B6BF-4E46-AC13-5F2EE5E953A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5F3C4F7-8189-44E1-AD59-C717A6F7F93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045C107-D652-4BE7-9875-610012F2E2C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CC67514-2A3D-41AB-8990-FC72DC7F7F8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F69459C-0E21-4AF3-A742-C2A9DCBFC40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C04C733-BCAD-40C4-B30A-2FA8C3C5221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D66F236-5F14-4E5B-8287-D6447D4597D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54B2EB8-F225-42C8-855E-947A0D3953A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5261E00-1734-49F3-874D-86B29F2FED5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E7A18D4-58B7-4AC4-A13C-6046B24C3D5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A7ACED6-628A-47DD-BD2C-111B65B93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D535966-C04E-440A-AB48-23764822273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6426C16-D02F-421F-9682-90418807F36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A5848DC-D6F8-41BD-8266-7C203180513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F0D0787-242A-4B49-A759-5C2EDE4FE5C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5A3B479-D18E-48DE-A84E-C422D971ACB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EBBCD25-6B22-4714-910D-98E041149A9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363E1D8-5E1A-4A95-BA39-3D79495AC11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7346540-ED64-4DB7-9B9D-6C7E3BB01FA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746732A-0684-4A82-9477-0B6166A5762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1DD9C64-0E66-4E4C-8D5D-52BF3A27EA6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C4CACFD-3928-4F03-8511-F7EFA3300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E6EAE57-DB08-4BEB-95E5-389354E384C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3026063-97A9-49DF-ACA0-66A43AF2738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025506D-B339-455F-A731-4026AC54EC9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21FCF89-0C7A-4AF2-9F43-2CBF691375F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33915EF-13F1-400C-B230-A2791BB1825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FC131F8-5DBE-4381-8BD1-C2F27CEB80A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E5B8181-0F0E-4DD3-BA06-2916269B8B3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F126E9F-6C95-49E0-A700-53413F42CE7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5D3D2F4-3179-4CBC-BA8B-DFC24D95B3E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F03719E-9174-486A-BAC1-8AEAAC32579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31C374-ED8D-4B1E-90EF-0930758088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B256970-684F-4986-B6DB-F518D45A0A9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3EDE339-0C63-4B8E-9663-AAA572A879A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212B8FD-2422-44AE-9DFC-560A754F3ED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089A6D4-1DAE-487C-8117-6B465BD6737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AD6215D-405D-4C24-A037-E90FBB8B5CC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58ED232-2A95-4338-ACAF-A040FBE2C8A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6104576-A860-4527-AC58-A9C3081FF34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9470433-C5BF-49EA-8AE4-7499E8DC805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C2A7D9E-F5A4-4D8F-9FC1-F3EF4C2B67E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64D8FBA-C266-4BA6-AD9E-4323D0B77FC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36BF44-5BC1-4E7F-9548-5B28AC438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ED226EF-E3E2-4FAF-BB82-FB1F233E094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CC3F154-6CBA-4B54-93DB-D39170E22A9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CBFC8EA-5285-45BA-AECA-78AEA68F0D6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89DFCAA-7545-44EE-9211-AF106FE5CF0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89C141D-D614-4F16-91BD-FD2F878E853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9FF43A0-B979-4DFD-9401-42336EA56D8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8C7A026-6DD8-4F04-9038-6A02BF616C1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0A924FC-7394-4A98-A721-F21B2A2B684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F2A4157-E9C9-45C8-A97A-540BC85FF4A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394C0A0-7261-4EEC-BDBE-DF0F19D3865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BE5005-00AA-4561-AEE0-26345D9E42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D158400-9BE3-49DD-B7BC-08073616766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39B9916-2C0E-4C49-95D7-C51276166B1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8B69A5A-606C-414D-BCA5-3B32D551875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AB5E46E-43EB-4CAA-BFD8-C148AD41584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BB1CE1B-78DB-4561-892D-45B25664F69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3B76896-70D4-4462-9863-9A0437944F7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966FD76-125F-4136-B063-0B00068E7DC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CBB1E3F-9F0F-4A86-B55D-7372024E956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5D41151-68AC-4931-A63C-EB3A80BF377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846A104-A53E-4B07-92BF-EAA7CD2160F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9D2E31-D56E-4D5C-A203-56686BCBA0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AAB71BC-0596-40B3-BA02-D16E92A4A2B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62FE579-8226-40BE-9EDD-AEA282A14E2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47E0C79-10B2-402A-B7DA-9D2256495E7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C971B92-E24A-4561-9DAE-AA20A032994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3BD2812-7437-4390-81DD-4975AB0F447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CB1BE9F-C9B3-4DB1-A9A8-BEC77BA4B0C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2C833CF-819A-4173-97F8-236BA0B3FA6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DC03AFB-5F97-4728-A85D-276F137E034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5FC9AE3-A11A-4C74-909D-FC9E3148C33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121FC44-4820-432F-AA98-9F678151E78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ADB173-5DAA-4843-A34F-90DE0BFB5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1CAA4FA-AD07-4785-BACD-7D774D54CD1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4A71F60-7E01-4BA5-92B3-43C9A2EDB85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E6B185E-DB1B-4790-9AB3-2D7ABF88EE6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D43FADC-9CD2-4F4F-B26F-1234B9FAEB7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E252D0F-DAE6-487D-A6C5-2F7AF356024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4E9A242-8F4F-44C1-99EC-E9445CEF813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EDAD5D6-F010-412E-86C0-256A58C5793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A7FA041-0C47-48D2-8D0B-B245FEEFD62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7C77136-464B-4DD4-9AF8-84E1E0ACE4C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256B227-D989-4831-80CC-5700A17B56B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34E35-7854-4AE9-A19C-6FC921FE1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7B2A39-3808-462A-964C-0FFF965A08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04D9036-412C-4E37-AA69-09AD5447ADE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CC63E-0031-4279-841E-3668FAF91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AC3A4-3B24-4F8A-ABCE-6C9AD73BBA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256F7-685E-42FB-83BF-C578C5F2C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92228B-E375-4F1E-B607-D93995BE84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C1EAB4-922D-4E49-A816-BE3C18852E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03F016-E387-4B1B-B69D-E58E077AF7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07C5DE-BBA2-451C-99A0-303F6B8253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A3C779-16A7-4003-99AF-7EB8071668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C30431-04D3-4FD3-9150-82CA617DBE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B9CC3-CFCA-4145-B438-51CF95955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777126-FEF5-4A3D-B7F4-1385B9D863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BB30D8-D44B-463E-A21E-B94A2F426D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65825E-623E-4CBA-A87B-7D4C0E5347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F52676-9971-4C25-BD18-049C01266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8317B-3179-4872-A697-CDD215A5AB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13078-B713-4F8C-BE48-384E0C4B6D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502BCF-43D3-4FF2-9DD2-BBA8967FAD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A35C9D-7F8C-4F42-B7D0-E024DF7BFE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506E2F-3BC7-47F4-9B0E-16C13BD4DF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F0E0FA-EB36-4CAE-A98B-53D21FB470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8EF4A-AA19-4883-8D84-55EF85AAA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67F34C-C12A-42AE-88C7-AA8105E444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A98A82-02B9-4D77-B7F5-E038315BDF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E02C68-3FE2-44B8-B888-F103E29CBE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7891AC-118C-470A-BBCE-18790F8104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21829A-D094-4FDC-81B1-E1E053DA6B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4A025A-3134-4921-9679-DC39987B09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1B0518-45C4-486B-9F16-84D82E8AF0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7E9C09-CEA9-46EF-90FA-605482ACD8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C22F80-9520-4BEA-9051-0F2A3B474D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1F8E7A-48C3-4881-A3E7-B4E77496D6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E757F-BCFC-4669-99F9-7013B547C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F38FD4-FEAC-4248-B59F-915A05856A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23E648-3CEE-475C-A235-D09D9E9493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36D796-61D3-4D6D-BBFE-4D0E076C4D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CADC7C-D172-481A-B89C-C75CDA725C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4562A3-D70D-4EDB-9681-C11FA32644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BB8E68-377E-49DC-9E1D-BED59D1E48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78D6F3-A1AA-42AE-BF77-748447FAA5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6BDFCE-8C80-4D7A-B233-B103F66E67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3DBD65-F79C-44A4-90AC-AA308125AF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A3D155-62F0-4476-AA09-13576221F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7A35E-AEA8-4805-8087-8EA205988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971805-2F4B-466C-B0B7-F72AA2F817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AB50CD-E3FF-4A24-A868-8BF669E7E9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3F143C-8238-44E0-BAED-AFE436030A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45F6FD4-49BD-4DF8-8195-3A53BE4AB1B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17AC2F2-8716-49A1-B307-DDC48746CCC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854D8BD-C718-4E25-95F1-44DB10E2688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C956675-1B69-4C29-9FF1-D174D47C781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15A0325-7293-495B-AC0F-D47023455DB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4139EDB-40E1-4800-BBF9-FF6045158CE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E9CB24E-F6A7-44BB-BCF2-DCFA59F0451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BD475-D980-4FF8-A280-F6A521222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51620DD-DBEE-4731-AA7F-7E38ADB7417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9CAEE0F-9C9D-428A-9A98-AA5EF74E253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0328DC0-FFAB-4BE9-B800-213E402F70A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08EDCFE-223B-48DE-815D-ECD98F92A8B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93642A8-79C6-49B3-899B-776C73D212E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65B2B8-BC0B-48F7-8A13-7A0D33672E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5C7462-8360-4F5C-9085-0D11104869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CC7AF1-392B-4133-9B2A-BC95A2C80C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834455-3640-47AD-A30A-65F75F7829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81E2C9-986B-488C-8DF3-F4D3363B63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98F2D-6A8C-4A54-9085-EFA2FA4A3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8C46BD-498F-4882-B4FB-973B397875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11B825-8A94-45F9-836E-4FC9094E16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0F5F19-DE87-4757-A0DA-E54DC602A5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06CD34-BFA8-4181-944E-FAC8B392E9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E9A812-12C2-43E7-9F52-C6490C75A8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5CDF83-C1CD-430A-918B-1AE1DBD672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D88FFC-8E5A-47AB-914E-2671117148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543810-FAC9-4CF5-B132-8FDB51CE64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ADCE52-F3E8-44B9-91C5-83E9E2C944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26386F-E763-4A15-A483-C164B01D86F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9DB0-E1EB-4274-98B2-EC6427E014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63"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64" name="PlaceHolder 3"/>
          <p:cNvSpPr>
            <a:spLocks noGrp="1"/>
          </p:cNvSpPr>
          <p:nvPr>
            <p:ph type="ftr" idx="29"/>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5"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A6B2-4721-4CE0-A425-0D09C957EFE2}"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6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f6969"/>
            </a:gs>
            <a:gs pos="100000">
              <a:srgbClr val="372929"/>
            </a:gs>
          </a:gsLst>
          <a:lin ang="5400000"/>
        </a:gradFill>
      </p:bgPr>
    </p:bg>
    <p:spTree>
      <p:nvGrpSpPr>
        <p:cNvPr id="1" name=""/>
        <p:cNvGrpSpPr/>
        <p:nvPr/>
      </p:nvGrpSpPr>
      <p:grpSpPr>
        <a:xfrm>
          <a:off x="0" y="0"/>
          <a:ext cx="0" cy="0"/>
          <a:chOff x="0" y="0"/>
          <a:chExt cx="0" cy="0"/>
        </a:xfrm>
      </p:grpSpPr>
      <p:grpSp>
        <p:nvGrpSpPr>
          <p:cNvPr id="505" name=""/>
          <p:cNvGrpSpPr/>
          <p:nvPr/>
        </p:nvGrpSpPr>
        <p:grpSpPr>
          <a:xfrm>
            <a:off x="1440" y="0"/>
            <a:ext cx="9149040" cy="6851520"/>
            <a:chOff x="1440" y="0"/>
            <a:chExt cx="9149040" cy="6851520"/>
          </a:xfrm>
        </p:grpSpPr>
        <p:sp>
          <p:nvSpPr>
            <p:cNvPr id="506"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9" name=""/>
            <p:cNvGrpSpPr/>
            <p:nvPr/>
          </p:nvGrpSpPr>
          <p:grpSpPr>
            <a:xfrm>
              <a:off x="457200" y="0"/>
              <a:ext cx="8093160" cy="6851520"/>
              <a:chOff x="457200" y="0"/>
              <a:chExt cx="8093160" cy="6851520"/>
            </a:xfrm>
          </p:grpSpPr>
          <p:sp>
            <p:nvSpPr>
              <p:cNvPr id="510"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3"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f6969"/>
                </a:gs>
                <a:gs pos="100000">
                  <a:srgbClr val="8662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f69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f69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f6969"/>
                </a:gs>
                <a:gs pos="100000">
                  <a:srgbClr val="8662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f69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f69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1440" y="4363920"/>
              <a:ext cx="914112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1440" y="3740040"/>
              <a:ext cx="914112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1440" y="4987800"/>
              <a:ext cx="9141120" cy="0"/>
            </a:xfrm>
            <a:prstGeom prst="line">
              <a:avLst/>
            </a:prstGeom>
            <a:ln w="15840">
              <a:solidFill>
                <a:srgbClr val="5f45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4" name=""/>
            <p:cNvGrpSpPr/>
            <p:nvPr/>
          </p:nvGrpSpPr>
          <p:grpSpPr>
            <a:xfrm>
              <a:off x="1440" y="622440"/>
              <a:ext cx="9141120" cy="2493720"/>
              <a:chOff x="1440" y="622440"/>
              <a:chExt cx="9141120" cy="2493720"/>
            </a:xfrm>
          </p:grpSpPr>
          <p:sp>
            <p:nvSpPr>
              <p:cNvPr id="535" name=""/>
              <p:cNvSpPr/>
              <p:nvPr/>
            </p:nvSpPr>
            <p:spPr>
              <a:xfrm>
                <a:off x="1440" y="1244520"/>
                <a:ext cx="914112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1440" y="3116160"/>
                <a:ext cx="914112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1440" y="2492280"/>
                <a:ext cx="914112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1440" y="1868400"/>
                <a:ext cx="914112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1440" y="622440"/>
                <a:ext cx="914112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0" name=""/>
            <p:cNvSpPr/>
            <p:nvPr/>
          </p:nvSpPr>
          <p:spPr>
            <a:xfrm>
              <a:off x="1440" y="6235560"/>
              <a:ext cx="9141120" cy="0"/>
            </a:xfrm>
            <a:prstGeom prst="line">
              <a:avLst/>
            </a:prstGeom>
            <a:ln w="15840">
              <a:solidFill>
                <a:srgbClr val="5f45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1440" y="5611680"/>
              <a:ext cx="9141120" cy="0"/>
            </a:xfrm>
            <a:prstGeom prst="line">
              <a:avLst/>
            </a:prstGeom>
            <a:ln w="15840">
              <a:solidFill>
                <a:srgbClr val="5f45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43" name="PlaceHolder 2"/>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44"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45" name="PlaceHolder 4"/>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A7854-B22A-4C1E-AA7D-5ABE40876129}"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4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fd37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24c0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98bb9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f6969"/>
            </a:gs>
            <a:gs pos="100000">
              <a:srgbClr val="372929"/>
            </a:gs>
          </a:gsLst>
          <a:lin ang="5400000"/>
        </a:gradFill>
      </p:bgPr>
    </p:bg>
    <p:spTree>
      <p:nvGrpSpPr>
        <p:cNvPr id="1" name=""/>
        <p:cNvGrpSpPr/>
        <p:nvPr/>
      </p:nvGrpSpPr>
      <p:grpSpPr>
        <a:xfrm>
          <a:off x="0" y="0"/>
          <a:ext cx="0" cy="0"/>
          <a:chOff x="0" y="0"/>
          <a:chExt cx="0" cy="0"/>
        </a:xfrm>
      </p:grpSpPr>
      <p:grpSp>
        <p:nvGrpSpPr>
          <p:cNvPr id="583" name=""/>
          <p:cNvGrpSpPr/>
          <p:nvPr/>
        </p:nvGrpSpPr>
        <p:grpSpPr>
          <a:xfrm>
            <a:off x="0" y="0"/>
            <a:ext cx="9148320" cy="6851520"/>
            <a:chOff x="0" y="0"/>
            <a:chExt cx="9148320" cy="6851520"/>
          </a:xfrm>
        </p:grpSpPr>
        <p:sp>
          <p:nvSpPr>
            <p:cNvPr id="58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7" name=""/>
            <p:cNvGrpSpPr/>
            <p:nvPr/>
          </p:nvGrpSpPr>
          <p:grpSpPr>
            <a:xfrm>
              <a:off x="455400" y="0"/>
              <a:ext cx="8092440" cy="6851520"/>
              <a:chOff x="455400" y="0"/>
              <a:chExt cx="8092440" cy="6851520"/>
            </a:xfrm>
          </p:grpSpPr>
          <p:sp>
            <p:nvSpPr>
              <p:cNvPr id="58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f6969"/>
                  </a:gs>
                  <a:gs pos="100000">
                    <a:srgbClr val="5e454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5f4545"/>
                </a:gs>
                <a:gs pos="100000">
                  <a:srgbClr val="3929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f6969"/>
                </a:gs>
                <a:gs pos="100000">
                  <a:srgbClr val="8662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f69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f69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f6969"/>
                </a:gs>
                <a:gs pos="100000">
                  <a:srgbClr val="8662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f69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f69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0" y="4363920"/>
              <a:ext cx="914076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0" y="3740040"/>
              <a:ext cx="914076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0" y="4987800"/>
              <a:ext cx="9140760" cy="0"/>
            </a:xfrm>
            <a:prstGeom prst="line">
              <a:avLst/>
            </a:prstGeom>
            <a:ln w="15840">
              <a:solidFill>
                <a:srgbClr val="5f45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0" y="622440"/>
              <a:ext cx="9140760" cy="2493720"/>
              <a:chOff x="0" y="622440"/>
              <a:chExt cx="9140760" cy="2493720"/>
            </a:xfrm>
          </p:grpSpPr>
          <p:sp>
            <p:nvSpPr>
              <p:cNvPr id="613" name=""/>
              <p:cNvSpPr/>
              <p:nvPr/>
            </p:nvSpPr>
            <p:spPr>
              <a:xfrm>
                <a:off x="0" y="1244520"/>
                <a:ext cx="914076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0" y="3116160"/>
                <a:ext cx="914076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0" y="2492280"/>
                <a:ext cx="914076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0" y="1868400"/>
                <a:ext cx="914076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0" y="622440"/>
                <a:ext cx="9140760" cy="0"/>
              </a:xfrm>
              <a:prstGeom prst="line">
                <a:avLst/>
              </a:prstGeom>
              <a:ln w="15840">
                <a:solidFill>
                  <a:srgbClr val="8f696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8" name=""/>
            <p:cNvSpPr/>
            <p:nvPr/>
          </p:nvSpPr>
          <p:spPr>
            <a:xfrm>
              <a:off x="0" y="6235560"/>
              <a:ext cx="9140760" cy="0"/>
            </a:xfrm>
            <a:prstGeom prst="line">
              <a:avLst/>
            </a:prstGeom>
            <a:ln w="15840">
              <a:solidFill>
                <a:srgbClr val="5f45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0" y="5611680"/>
              <a:ext cx="9140760" cy="0"/>
            </a:xfrm>
            <a:prstGeom prst="line">
              <a:avLst/>
            </a:prstGeom>
            <a:ln w="15840">
              <a:solidFill>
                <a:srgbClr val="5f45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621"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622"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23"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CD50-BC44-45A1-A625-23E2295872C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6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1" name=""/>
          <p:cNvGrpSpPr/>
          <p:nvPr/>
        </p:nvGrpSpPr>
        <p:grpSpPr>
          <a:xfrm>
            <a:off x="3240" y="4267080"/>
            <a:ext cx="9140760" cy="2590920"/>
            <a:chOff x="3240" y="4267080"/>
            <a:chExt cx="9140760" cy="2590920"/>
          </a:xfrm>
        </p:grpSpPr>
        <p:sp>
          <p:nvSpPr>
            <p:cNvPr id="66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3" name=""/>
            <p:cNvGrpSpPr/>
            <p:nvPr/>
          </p:nvGrpSpPr>
          <p:grpSpPr>
            <a:xfrm>
              <a:off x="5600880" y="5897520"/>
              <a:ext cx="1256760" cy="827280"/>
              <a:chOff x="5600880" y="5897520"/>
              <a:chExt cx="1256760" cy="827280"/>
            </a:xfrm>
          </p:grpSpPr>
          <p:sp>
            <p:nvSpPr>
              <p:cNvPr id="66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7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675" name=""/>
            <p:cNvGrpSpPr/>
            <p:nvPr/>
          </p:nvGrpSpPr>
          <p:grpSpPr>
            <a:xfrm>
              <a:off x="2819520" y="5764320"/>
              <a:ext cx="2581200" cy="1084320"/>
              <a:chOff x="2819520" y="5764320"/>
              <a:chExt cx="2581200" cy="1084320"/>
            </a:xfrm>
          </p:grpSpPr>
          <p:sp>
            <p:nvSpPr>
              <p:cNvPr id="67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8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94" name=""/>
            <p:cNvGrpSpPr/>
            <p:nvPr/>
          </p:nvGrpSpPr>
          <p:grpSpPr>
            <a:xfrm>
              <a:off x="6553080" y="5334120"/>
              <a:ext cx="2144880" cy="1303200"/>
              <a:chOff x="6553080" y="5334120"/>
              <a:chExt cx="2144880" cy="1303200"/>
            </a:xfrm>
          </p:grpSpPr>
          <p:sp>
            <p:nvSpPr>
              <p:cNvPr id="69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9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0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712" name=""/>
            <p:cNvGrpSpPr/>
            <p:nvPr/>
          </p:nvGrpSpPr>
          <p:grpSpPr>
            <a:xfrm>
              <a:off x="8381880" y="4800600"/>
              <a:ext cx="674640" cy="409680"/>
              <a:chOff x="8381880" y="4800600"/>
              <a:chExt cx="674640" cy="409680"/>
            </a:xfrm>
          </p:grpSpPr>
          <p:sp>
            <p:nvSpPr>
              <p:cNvPr id="71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1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1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0" name=""/>
              <p:cNvGrpSpPr/>
              <p:nvPr/>
            </p:nvGrpSpPr>
            <p:grpSpPr>
              <a:xfrm>
                <a:off x="8542440" y="4897440"/>
                <a:ext cx="360360" cy="209520"/>
                <a:chOff x="8542440" y="4897440"/>
                <a:chExt cx="360360" cy="209520"/>
              </a:xfrm>
            </p:grpSpPr>
            <p:sp>
              <p:nvSpPr>
                <p:cNvPr id="72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2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2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2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E40D-C17C-4E32-91FF-BC4743EED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766" name=""/>
          <p:cNvGrpSpPr/>
          <p:nvPr/>
        </p:nvGrpSpPr>
        <p:grpSpPr>
          <a:xfrm>
            <a:off x="3240" y="4267080"/>
            <a:ext cx="9140760" cy="2590920"/>
            <a:chOff x="3240" y="4267080"/>
            <a:chExt cx="9140760" cy="2590920"/>
          </a:xfrm>
        </p:grpSpPr>
        <p:sp>
          <p:nvSpPr>
            <p:cNvPr id="76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8" name=""/>
            <p:cNvGrpSpPr/>
            <p:nvPr/>
          </p:nvGrpSpPr>
          <p:grpSpPr>
            <a:xfrm>
              <a:off x="5600880" y="5897520"/>
              <a:ext cx="1256760" cy="827280"/>
              <a:chOff x="5600880" y="5897520"/>
              <a:chExt cx="1256760" cy="827280"/>
            </a:xfrm>
          </p:grpSpPr>
          <p:sp>
            <p:nvSpPr>
              <p:cNvPr id="76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7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780" name=""/>
            <p:cNvGrpSpPr/>
            <p:nvPr/>
          </p:nvGrpSpPr>
          <p:grpSpPr>
            <a:xfrm>
              <a:off x="2819520" y="5764320"/>
              <a:ext cx="2581200" cy="1084320"/>
              <a:chOff x="2819520" y="5764320"/>
              <a:chExt cx="2581200" cy="1084320"/>
            </a:xfrm>
          </p:grpSpPr>
          <p:sp>
            <p:nvSpPr>
              <p:cNvPr id="78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8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99" name=""/>
            <p:cNvGrpSpPr/>
            <p:nvPr/>
          </p:nvGrpSpPr>
          <p:grpSpPr>
            <a:xfrm>
              <a:off x="6553080" y="5334120"/>
              <a:ext cx="2144880" cy="1303200"/>
              <a:chOff x="6553080" y="5334120"/>
              <a:chExt cx="2144880" cy="1303200"/>
            </a:xfrm>
          </p:grpSpPr>
          <p:sp>
            <p:nvSpPr>
              <p:cNvPr id="80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0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1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817" name=""/>
            <p:cNvGrpSpPr/>
            <p:nvPr/>
          </p:nvGrpSpPr>
          <p:grpSpPr>
            <a:xfrm>
              <a:off x="8381880" y="4800600"/>
              <a:ext cx="674640" cy="409680"/>
              <a:chOff x="8381880" y="4800600"/>
              <a:chExt cx="674640" cy="409680"/>
            </a:xfrm>
          </p:grpSpPr>
          <p:sp>
            <p:nvSpPr>
              <p:cNvPr id="81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2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2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5" name=""/>
              <p:cNvGrpSpPr/>
              <p:nvPr/>
            </p:nvGrpSpPr>
            <p:grpSpPr>
              <a:xfrm>
                <a:off x="8542440" y="4897440"/>
                <a:ext cx="360360" cy="209520"/>
                <a:chOff x="8542440" y="4897440"/>
                <a:chExt cx="360360" cy="209520"/>
              </a:xfrm>
            </p:grpSpPr>
            <p:sp>
              <p:nvSpPr>
                <p:cNvPr id="82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83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31"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2"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3"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6BA9-895D-43A9-A43E-84A18455CA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7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2" name="PlaceHolder 3"/>
          <p:cNvSpPr>
            <a:spLocks noGrp="1"/>
          </p:cNvSpPr>
          <p:nvPr>
            <p:ph type="dt" idx="43"/>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3"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4" name="PlaceHolder 5"/>
          <p:cNvSpPr>
            <a:spLocks noGrp="1"/>
          </p:cNvSpPr>
          <p:nvPr>
            <p:ph type="sldNum" idx="4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F93F-B189-47FE-9035-065FB25040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912" name="PlaceHolder 2"/>
          <p:cNvSpPr>
            <a:spLocks noGrp="1"/>
          </p:cNvSpPr>
          <p:nvPr>
            <p:ph type="dt" idx="46"/>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3" name="PlaceHolder 3"/>
          <p:cNvSpPr>
            <a:spLocks noGrp="1"/>
          </p:cNvSpPr>
          <p:nvPr>
            <p:ph type="ftr" idx="4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4" name="PlaceHolder 4"/>
          <p:cNvSpPr>
            <a:spLocks noGrp="1"/>
          </p:cNvSpPr>
          <p:nvPr>
            <p:ph type="sldNum" idx="48"/>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5344-D101-4C4B-AD7A-45521BD415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52" name=""/>
          <p:cNvGrpSpPr/>
          <p:nvPr/>
        </p:nvGrpSpPr>
        <p:grpSpPr>
          <a:xfrm>
            <a:off x="0" y="2438280"/>
            <a:ext cx="9144000" cy="4046760"/>
            <a:chOff x="0" y="2438280"/>
            <a:chExt cx="9144000" cy="4046760"/>
          </a:xfrm>
        </p:grpSpPr>
        <p:sp>
          <p:nvSpPr>
            <p:cNvPr id="953" name=""/>
            <p:cNvSpPr/>
            <p:nvPr/>
          </p:nvSpPr>
          <p:spPr>
            <a:xfrm rot="20175000">
              <a:off x="3367080" y="4114440"/>
              <a:ext cx="4876920" cy="609480"/>
            </a:xfrm>
            <a:prstGeom prst="rect">
              <a:avLst/>
            </a:prstGeom>
            <a:gradFill rotWithShape="0">
              <a:gsLst>
                <a:gs pos="0">
                  <a:srgbClr val="d3cfc6"/>
                </a:gs>
                <a:gs pos="50000">
                  <a:srgbClr val="e2ddd4"/>
                </a:gs>
                <a:gs pos="100000">
                  <a:srgbClr val="d3cfc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efebe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efebe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efebe3"/>
                </a:gs>
                <a:gs pos="100000">
                  <a:srgbClr val="f0ed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efebe3"/>
                </a:gs>
                <a:gs pos="100000">
                  <a:srgbClr val="efebe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4"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efebe3"/>
                </a:gs>
                <a:gs pos="100000">
                  <a:srgbClr val="efebe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efebe3"/>
                </a:gs>
                <a:gs pos="100000">
                  <a:srgbClr val="efebe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efebe3"/>
                </a:gs>
                <a:gs pos="100000">
                  <a:srgbClr val="f0ed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969" name="PlaceHolder 2"/>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70" name="PlaceHolder 3"/>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71" name="PlaceHolder 4"/>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FF6D-877B-4A95-BBEF-7C0710C2E20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72"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8f8e73"/>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09" name=""/>
          <p:cNvGrpSpPr/>
          <p:nvPr/>
        </p:nvGrpSpPr>
        <p:grpSpPr>
          <a:xfrm>
            <a:off x="0" y="2438280"/>
            <a:ext cx="9144000" cy="4046760"/>
            <a:chOff x="0" y="2438280"/>
            <a:chExt cx="9144000" cy="4046760"/>
          </a:xfrm>
        </p:grpSpPr>
        <p:sp>
          <p:nvSpPr>
            <p:cNvPr id="1010" name=""/>
            <p:cNvSpPr/>
            <p:nvPr/>
          </p:nvSpPr>
          <p:spPr>
            <a:xfrm rot="20175000">
              <a:off x="3367080" y="4114440"/>
              <a:ext cx="4876920" cy="609480"/>
            </a:xfrm>
            <a:prstGeom prst="rect">
              <a:avLst/>
            </a:prstGeom>
            <a:gradFill rotWithShape="0">
              <a:gsLst>
                <a:gs pos="0">
                  <a:srgbClr val="d3cfc6"/>
                </a:gs>
                <a:gs pos="50000">
                  <a:srgbClr val="e2ddd4"/>
                </a:gs>
                <a:gs pos="100000">
                  <a:srgbClr val="d3cfc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efebe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efebe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efebe3"/>
                </a:gs>
                <a:gs pos="100000">
                  <a:srgbClr val="f0ed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efebe3"/>
                </a:gs>
                <a:gs pos="100000">
                  <a:srgbClr val="efebe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efebe3"/>
                </a:gs>
                <a:gs pos="100000">
                  <a:srgbClr val="efebe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efebe3"/>
                </a:gs>
                <a:gs pos="100000">
                  <a:srgbClr val="efebe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efebe3"/>
                </a:gs>
                <a:gs pos="100000">
                  <a:srgbClr val="f0ed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Click to edit the title text format</a:t>
            </a:r>
            <a:endParaRPr b="1" lang="en-US" sz="5400" spc="-1" strike="noStrike">
              <a:solidFill>
                <a:srgbClr val="000000"/>
              </a:solidFill>
              <a:latin typeface="Garamond"/>
            </a:endParaRPr>
          </a:p>
        </p:txBody>
      </p:sp>
      <p:sp>
        <p:nvSpPr>
          <p:cNvPr id="1026"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27"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28"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5575-7FA0-43E9-88F6-FE48F9FA261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06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7" name="PlaceHolder 3"/>
          <p:cNvSpPr>
            <a:spLocks noGrp="1"/>
          </p:cNvSpPr>
          <p:nvPr>
            <p:ph type="dt" idx="55"/>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68"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69" name="PlaceHolder 5"/>
          <p:cNvSpPr>
            <a:spLocks noGrp="1"/>
          </p:cNvSpPr>
          <p:nvPr>
            <p:ph type="sldNum" idx="5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D986-AA54-470F-B67F-FE8F555AFF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1070" name=""/>
          <p:cNvGrpSpPr/>
          <p:nvPr/>
        </p:nvGrpSpPr>
        <p:grpSpPr>
          <a:xfrm>
            <a:off x="279360" y="152280"/>
            <a:ext cx="8686800" cy="1600200"/>
            <a:chOff x="279360" y="152280"/>
            <a:chExt cx="8686800" cy="1600200"/>
          </a:xfrm>
        </p:grpSpPr>
        <p:sp>
          <p:nvSpPr>
            <p:cNvPr id="1071"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3"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4"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5"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AD9F-B659-44ED-8D38-05EE75056D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1114" name="PlaceHolder 2"/>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5"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16" name="PlaceHolder 4"/>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7A7D-A4D7-4D28-95A0-C61C6D7BC8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1117" name=""/>
          <p:cNvGrpSpPr/>
          <p:nvPr/>
        </p:nvGrpSpPr>
        <p:grpSpPr>
          <a:xfrm>
            <a:off x="380880" y="304920"/>
            <a:ext cx="8391600" cy="5790960"/>
            <a:chOff x="380880" y="304920"/>
            <a:chExt cx="8391600" cy="5790960"/>
          </a:xfrm>
        </p:grpSpPr>
        <p:sp>
          <p:nvSpPr>
            <p:cNvPr id="1118"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9"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0"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1"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2"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60" name=""/>
          <p:cNvGrpSpPr/>
          <p:nvPr/>
        </p:nvGrpSpPr>
        <p:grpSpPr>
          <a:xfrm>
            <a:off x="6273360" y="-21240"/>
            <a:ext cx="2966400" cy="3296160"/>
            <a:chOff x="6273360" y="-21240"/>
            <a:chExt cx="2966400" cy="3296160"/>
          </a:xfrm>
        </p:grpSpPr>
        <p:grpSp>
          <p:nvGrpSpPr>
            <p:cNvPr id="1161" name=""/>
            <p:cNvGrpSpPr/>
            <p:nvPr/>
          </p:nvGrpSpPr>
          <p:grpSpPr>
            <a:xfrm>
              <a:off x="7566840" y="2500200"/>
              <a:ext cx="1004760" cy="753840"/>
              <a:chOff x="7566840" y="2500200"/>
              <a:chExt cx="1004760" cy="753840"/>
            </a:xfrm>
          </p:grpSpPr>
          <p:sp>
            <p:nvSpPr>
              <p:cNvPr id="116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64" name=""/>
            <p:cNvGrpSpPr/>
            <p:nvPr/>
          </p:nvGrpSpPr>
          <p:grpSpPr>
            <a:xfrm>
              <a:off x="7798320" y="1443600"/>
              <a:ext cx="1005120" cy="753840"/>
              <a:chOff x="7798320" y="1443600"/>
              <a:chExt cx="1005120" cy="753840"/>
            </a:xfrm>
          </p:grpSpPr>
          <p:sp>
            <p:nvSpPr>
              <p:cNvPr id="116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67" name=""/>
            <p:cNvGrpSpPr/>
            <p:nvPr/>
          </p:nvGrpSpPr>
          <p:grpSpPr>
            <a:xfrm>
              <a:off x="6328800" y="0"/>
              <a:ext cx="1005120" cy="753840"/>
              <a:chOff x="6328800" y="0"/>
              <a:chExt cx="1005120" cy="753840"/>
            </a:xfrm>
          </p:grpSpPr>
          <p:sp>
            <p:nvSpPr>
              <p:cNvPr id="116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70" name=""/>
            <p:cNvGrpSpPr/>
            <p:nvPr/>
          </p:nvGrpSpPr>
          <p:grpSpPr>
            <a:xfrm>
              <a:off x="6273360" y="-21240"/>
              <a:ext cx="2966400" cy="3296160"/>
              <a:chOff x="6273360" y="-21240"/>
              <a:chExt cx="2966400" cy="3296160"/>
            </a:xfrm>
          </p:grpSpPr>
          <p:grpSp>
            <p:nvGrpSpPr>
              <p:cNvPr id="1171" name=""/>
              <p:cNvGrpSpPr/>
              <p:nvPr/>
            </p:nvGrpSpPr>
            <p:grpSpPr>
              <a:xfrm>
                <a:off x="6990840" y="402840"/>
                <a:ext cx="1498680" cy="1104480"/>
                <a:chOff x="6990840" y="402840"/>
                <a:chExt cx="1498680" cy="1104480"/>
              </a:xfrm>
            </p:grpSpPr>
            <p:sp>
              <p:nvSpPr>
                <p:cNvPr id="117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74" name=""/>
              <p:cNvGrpSpPr/>
              <p:nvPr/>
            </p:nvGrpSpPr>
            <p:grpSpPr>
              <a:xfrm>
                <a:off x="6273360" y="-21240"/>
                <a:ext cx="2867400" cy="2268360"/>
                <a:chOff x="6273360" y="-21240"/>
                <a:chExt cx="2867400" cy="2268360"/>
              </a:xfrm>
            </p:grpSpPr>
            <p:grpSp>
              <p:nvGrpSpPr>
                <p:cNvPr id="1175" name=""/>
                <p:cNvGrpSpPr/>
                <p:nvPr/>
              </p:nvGrpSpPr>
              <p:grpSpPr>
                <a:xfrm>
                  <a:off x="7834680" y="842760"/>
                  <a:ext cx="1064160" cy="1141560"/>
                  <a:chOff x="7834680" y="842760"/>
                  <a:chExt cx="1064160" cy="1141560"/>
                </a:xfrm>
              </p:grpSpPr>
              <p:sp>
                <p:nvSpPr>
                  <p:cNvPr id="117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78" name=""/>
                <p:cNvGrpSpPr/>
                <p:nvPr/>
              </p:nvGrpSpPr>
              <p:grpSpPr>
                <a:xfrm>
                  <a:off x="7844760" y="770760"/>
                  <a:ext cx="1265760" cy="1052640"/>
                  <a:chOff x="7844760" y="770760"/>
                  <a:chExt cx="1265760" cy="1052640"/>
                </a:xfrm>
              </p:grpSpPr>
              <p:sp>
                <p:nvSpPr>
                  <p:cNvPr id="117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8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81" name=""/>
                <p:cNvGrpSpPr/>
                <p:nvPr/>
              </p:nvGrpSpPr>
              <p:grpSpPr>
                <a:xfrm>
                  <a:off x="7840440" y="735480"/>
                  <a:ext cx="1288080" cy="828720"/>
                  <a:chOff x="7840440" y="735480"/>
                  <a:chExt cx="1288080" cy="828720"/>
                </a:xfrm>
              </p:grpSpPr>
              <p:sp>
                <p:nvSpPr>
                  <p:cNvPr id="118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8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84" name=""/>
                <p:cNvGrpSpPr/>
                <p:nvPr/>
              </p:nvGrpSpPr>
              <p:grpSpPr>
                <a:xfrm>
                  <a:off x="7837200" y="695880"/>
                  <a:ext cx="1303560" cy="669240"/>
                  <a:chOff x="7837200" y="695880"/>
                  <a:chExt cx="1303560" cy="669240"/>
                </a:xfrm>
              </p:grpSpPr>
              <p:sp>
                <p:nvSpPr>
                  <p:cNvPr id="118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8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87" name=""/>
                <p:cNvGrpSpPr/>
                <p:nvPr/>
              </p:nvGrpSpPr>
              <p:grpSpPr>
                <a:xfrm>
                  <a:off x="7852680" y="657720"/>
                  <a:ext cx="1223640" cy="417960"/>
                  <a:chOff x="7852680" y="657720"/>
                  <a:chExt cx="1223640" cy="417960"/>
                </a:xfrm>
              </p:grpSpPr>
              <p:sp>
                <p:nvSpPr>
                  <p:cNvPr id="118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8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90" name=""/>
                <p:cNvGrpSpPr/>
                <p:nvPr/>
              </p:nvGrpSpPr>
              <p:grpSpPr>
                <a:xfrm>
                  <a:off x="7871760" y="632880"/>
                  <a:ext cx="1106280" cy="184320"/>
                  <a:chOff x="7871760" y="632880"/>
                  <a:chExt cx="1106280" cy="184320"/>
                </a:xfrm>
              </p:grpSpPr>
              <p:sp>
                <p:nvSpPr>
                  <p:cNvPr id="119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9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93" name=""/>
                <p:cNvGrpSpPr/>
                <p:nvPr/>
              </p:nvGrpSpPr>
              <p:grpSpPr>
                <a:xfrm>
                  <a:off x="7845480" y="419760"/>
                  <a:ext cx="983520" cy="326880"/>
                  <a:chOff x="7845480" y="419760"/>
                  <a:chExt cx="983520" cy="326880"/>
                </a:xfrm>
              </p:grpSpPr>
              <p:sp>
                <p:nvSpPr>
                  <p:cNvPr id="119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9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96" name=""/>
                <p:cNvGrpSpPr/>
                <p:nvPr/>
              </p:nvGrpSpPr>
              <p:grpSpPr>
                <a:xfrm>
                  <a:off x="6538320" y="906120"/>
                  <a:ext cx="1063440" cy="1140840"/>
                  <a:chOff x="6538320" y="906120"/>
                  <a:chExt cx="1063440" cy="1140840"/>
                </a:xfrm>
              </p:grpSpPr>
              <p:sp>
                <p:nvSpPr>
                  <p:cNvPr id="119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9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99" name=""/>
                <p:cNvGrpSpPr/>
                <p:nvPr/>
              </p:nvGrpSpPr>
              <p:grpSpPr>
                <a:xfrm>
                  <a:off x="6303960" y="861120"/>
                  <a:ext cx="1266120" cy="1053000"/>
                  <a:chOff x="6303960" y="861120"/>
                  <a:chExt cx="1266120" cy="1053000"/>
                </a:xfrm>
              </p:grpSpPr>
              <p:sp>
                <p:nvSpPr>
                  <p:cNvPr id="120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02" name=""/>
                <p:cNvGrpSpPr/>
                <p:nvPr/>
              </p:nvGrpSpPr>
              <p:grpSpPr>
                <a:xfrm>
                  <a:off x="6285960" y="826920"/>
                  <a:ext cx="1288800" cy="828720"/>
                  <a:chOff x="6285960" y="826920"/>
                  <a:chExt cx="1288800" cy="828720"/>
                </a:xfrm>
              </p:grpSpPr>
              <p:sp>
                <p:nvSpPr>
                  <p:cNvPr id="120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05" name=""/>
                <p:cNvGrpSpPr/>
                <p:nvPr/>
              </p:nvGrpSpPr>
              <p:grpSpPr>
                <a:xfrm>
                  <a:off x="6273360" y="787320"/>
                  <a:ext cx="1303920" cy="668520"/>
                  <a:chOff x="6273360" y="787320"/>
                  <a:chExt cx="1303920" cy="668520"/>
                </a:xfrm>
              </p:grpSpPr>
              <p:sp>
                <p:nvSpPr>
                  <p:cNvPr id="120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08" name=""/>
                <p:cNvGrpSpPr/>
                <p:nvPr/>
              </p:nvGrpSpPr>
              <p:grpSpPr>
                <a:xfrm>
                  <a:off x="6338880" y="749520"/>
                  <a:ext cx="1222560" cy="416160"/>
                  <a:chOff x="6338880" y="749520"/>
                  <a:chExt cx="1222560" cy="416160"/>
                </a:xfrm>
              </p:grpSpPr>
              <p:sp>
                <p:nvSpPr>
                  <p:cNvPr id="120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11" name=""/>
                <p:cNvGrpSpPr/>
                <p:nvPr/>
              </p:nvGrpSpPr>
              <p:grpSpPr>
                <a:xfrm>
                  <a:off x="6436080" y="722880"/>
                  <a:ext cx="1106640" cy="184320"/>
                  <a:chOff x="6436080" y="722880"/>
                  <a:chExt cx="1106640" cy="184320"/>
                </a:xfrm>
              </p:grpSpPr>
              <p:sp>
                <p:nvSpPr>
                  <p:cNvPr id="121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14" name=""/>
                <p:cNvGrpSpPr/>
                <p:nvPr/>
              </p:nvGrpSpPr>
              <p:grpSpPr>
                <a:xfrm>
                  <a:off x="6585480" y="510120"/>
                  <a:ext cx="983880" cy="326880"/>
                  <a:chOff x="6585480" y="510120"/>
                  <a:chExt cx="983880" cy="326880"/>
                </a:xfrm>
              </p:grpSpPr>
              <p:sp>
                <p:nvSpPr>
                  <p:cNvPr id="121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7" name=""/>
                <p:cNvGrpSpPr/>
                <p:nvPr/>
              </p:nvGrpSpPr>
              <p:grpSpPr>
                <a:xfrm>
                  <a:off x="6638400" y="390600"/>
                  <a:ext cx="967320" cy="451800"/>
                  <a:chOff x="6638400" y="390600"/>
                  <a:chExt cx="967320" cy="451800"/>
                </a:xfrm>
              </p:grpSpPr>
              <p:sp>
                <p:nvSpPr>
                  <p:cNvPr id="121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1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0" name=""/>
                <p:cNvGrpSpPr/>
                <p:nvPr/>
              </p:nvGrpSpPr>
              <p:grpSpPr>
                <a:xfrm>
                  <a:off x="6751800" y="222480"/>
                  <a:ext cx="902520" cy="627120"/>
                  <a:chOff x="6751800" y="222480"/>
                  <a:chExt cx="902520" cy="627120"/>
                </a:xfrm>
              </p:grpSpPr>
              <p:sp>
                <p:nvSpPr>
                  <p:cNvPr id="122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3" name=""/>
                <p:cNvGrpSpPr/>
                <p:nvPr/>
              </p:nvGrpSpPr>
              <p:grpSpPr>
                <a:xfrm>
                  <a:off x="6867720" y="57600"/>
                  <a:ext cx="825120" cy="761760"/>
                  <a:chOff x="6867720" y="57600"/>
                  <a:chExt cx="825120" cy="761760"/>
                </a:xfrm>
              </p:grpSpPr>
              <p:sp>
                <p:nvSpPr>
                  <p:cNvPr id="122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6" name=""/>
                <p:cNvGrpSpPr/>
                <p:nvPr/>
              </p:nvGrpSpPr>
              <p:grpSpPr>
                <a:xfrm>
                  <a:off x="7111800" y="15840"/>
                  <a:ext cx="608040" cy="784800"/>
                  <a:chOff x="7111800" y="15840"/>
                  <a:chExt cx="608040" cy="784800"/>
                </a:xfrm>
              </p:grpSpPr>
              <p:sp>
                <p:nvSpPr>
                  <p:cNvPr id="122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9" name=""/>
                <p:cNvGrpSpPr/>
                <p:nvPr/>
              </p:nvGrpSpPr>
              <p:grpSpPr>
                <a:xfrm>
                  <a:off x="7287480" y="-21240"/>
                  <a:ext cx="466560" cy="808200"/>
                  <a:chOff x="7287480" y="-21240"/>
                  <a:chExt cx="466560" cy="808200"/>
                </a:xfrm>
              </p:grpSpPr>
              <p:sp>
                <p:nvSpPr>
                  <p:cNvPr id="123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2" name=""/>
                <p:cNvGrpSpPr/>
                <p:nvPr/>
              </p:nvGrpSpPr>
              <p:grpSpPr>
                <a:xfrm>
                  <a:off x="7793280" y="272160"/>
                  <a:ext cx="963720" cy="462960"/>
                  <a:chOff x="7793280" y="272160"/>
                  <a:chExt cx="963720" cy="462960"/>
                </a:xfrm>
              </p:grpSpPr>
              <p:sp>
                <p:nvSpPr>
                  <p:cNvPr id="123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5" name=""/>
                <p:cNvGrpSpPr/>
                <p:nvPr/>
              </p:nvGrpSpPr>
              <p:grpSpPr>
                <a:xfrm>
                  <a:off x="7737840" y="136080"/>
                  <a:ext cx="915840" cy="604800"/>
                  <a:chOff x="7737840" y="136080"/>
                  <a:chExt cx="915840" cy="604800"/>
                </a:xfrm>
              </p:grpSpPr>
              <p:sp>
                <p:nvSpPr>
                  <p:cNvPr id="123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3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40" name=""/>
                <p:cNvGrpSpPr/>
                <p:nvPr/>
              </p:nvGrpSpPr>
              <p:grpSpPr>
                <a:xfrm>
                  <a:off x="7665480" y="-11160"/>
                  <a:ext cx="497520" cy="790920"/>
                  <a:chOff x="7665480" y="-11160"/>
                  <a:chExt cx="497520" cy="790920"/>
                </a:xfrm>
              </p:grpSpPr>
              <p:sp>
                <p:nvSpPr>
                  <p:cNvPr id="124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3" name=""/>
                <p:cNvGrpSpPr/>
                <p:nvPr/>
              </p:nvGrpSpPr>
              <p:grpSpPr>
                <a:xfrm>
                  <a:off x="7662960" y="38160"/>
                  <a:ext cx="785880" cy="747360"/>
                  <a:chOff x="7662960" y="38160"/>
                  <a:chExt cx="785880" cy="747360"/>
                </a:xfrm>
              </p:grpSpPr>
              <p:sp>
                <p:nvSpPr>
                  <p:cNvPr id="124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6" name=""/>
                <p:cNvGrpSpPr/>
                <p:nvPr/>
              </p:nvGrpSpPr>
              <p:grpSpPr>
                <a:xfrm>
                  <a:off x="7708680" y="-1440"/>
                  <a:ext cx="177840" cy="746640"/>
                  <a:chOff x="7708680" y="-1440"/>
                  <a:chExt cx="177840" cy="746640"/>
                </a:xfrm>
              </p:grpSpPr>
              <p:sp>
                <p:nvSpPr>
                  <p:cNvPr id="124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24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249" name=""/>
                <p:cNvGrpSpPr/>
                <p:nvPr/>
              </p:nvGrpSpPr>
              <p:grpSpPr>
                <a:xfrm>
                  <a:off x="6711120" y="929880"/>
                  <a:ext cx="912960" cy="1248840"/>
                  <a:chOff x="6711120" y="929880"/>
                  <a:chExt cx="912960" cy="1248840"/>
                </a:xfrm>
              </p:grpSpPr>
              <p:sp>
                <p:nvSpPr>
                  <p:cNvPr id="125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52" name=""/>
                <p:cNvGrpSpPr/>
                <p:nvPr/>
              </p:nvGrpSpPr>
              <p:grpSpPr>
                <a:xfrm>
                  <a:off x="7014240" y="979200"/>
                  <a:ext cx="616680" cy="1248480"/>
                  <a:chOff x="7014240" y="979200"/>
                  <a:chExt cx="616680" cy="1248480"/>
                </a:xfrm>
              </p:grpSpPr>
              <p:sp>
                <p:nvSpPr>
                  <p:cNvPr id="125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55" name=""/>
                <p:cNvGrpSpPr/>
                <p:nvPr/>
              </p:nvGrpSpPr>
              <p:grpSpPr>
                <a:xfrm>
                  <a:off x="7311960" y="1001160"/>
                  <a:ext cx="364680" cy="1217880"/>
                  <a:chOff x="7311960" y="1001160"/>
                  <a:chExt cx="364680" cy="1217880"/>
                </a:xfrm>
              </p:grpSpPr>
              <p:sp>
                <p:nvSpPr>
                  <p:cNvPr id="125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58" name=""/>
                <p:cNvGrpSpPr/>
                <p:nvPr/>
              </p:nvGrpSpPr>
              <p:grpSpPr>
                <a:xfrm>
                  <a:off x="7798680" y="909360"/>
                  <a:ext cx="949680" cy="1229040"/>
                  <a:chOff x="7798680" y="909360"/>
                  <a:chExt cx="949680" cy="1229040"/>
                </a:xfrm>
              </p:grpSpPr>
              <p:sp>
                <p:nvSpPr>
                  <p:cNvPr id="125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61" name=""/>
                <p:cNvGrpSpPr/>
                <p:nvPr/>
              </p:nvGrpSpPr>
              <p:grpSpPr>
                <a:xfrm>
                  <a:off x="7786440" y="956160"/>
                  <a:ext cx="732960" cy="1261800"/>
                  <a:chOff x="7786440" y="956160"/>
                  <a:chExt cx="732960" cy="1261800"/>
                </a:xfrm>
              </p:grpSpPr>
              <p:sp>
                <p:nvSpPr>
                  <p:cNvPr id="126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64" name=""/>
                <p:cNvGrpSpPr/>
                <p:nvPr/>
              </p:nvGrpSpPr>
              <p:grpSpPr>
                <a:xfrm>
                  <a:off x="7756920" y="1005120"/>
                  <a:ext cx="510120" cy="1242000"/>
                  <a:chOff x="7756920" y="1005120"/>
                  <a:chExt cx="510120" cy="1242000"/>
                </a:xfrm>
              </p:grpSpPr>
              <p:sp>
                <p:nvSpPr>
                  <p:cNvPr id="126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7" name=""/>
                <p:cNvGrpSpPr/>
                <p:nvPr/>
              </p:nvGrpSpPr>
              <p:grpSpPr>
                <a:xfrm>
                  <a:off x="7733880" y="1058760"/>
                  <a:ext cx="290160" cy="1155960"/>
                  <a:chOff x="7733880" y="1058760"/>
                  <a:chExt cx="290160" cy="1155960"/>
                </a:xfrm>
              </p:grpSpPr>
              <p:sp>
                <p:nvSpPr>
                  <p:cNvPr id="126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0" name=""/>
                <p:cNvGrpSpPr/>
                <p:nvPr/>
              </p:nvGrpSpPr>
              <p:grpSpPr>
                <a:xfrm>
                  <a:off x="7500960" y="1077480"/>
                  <a:ext cx="276120" cy="1131480"/>
                  <a:chOff x="7500960" y="1077480"/>
                  <a:chExt cx="276120" cy="1131480"/>
                </a:xfrm>
              </p:grpSpPr>
              <p:sp>
                <p:nvSpPr>
                  <p:cNvPr id="127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27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2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297"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298"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299"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9D1D-84BD-4E3A-8F79-1B828C9DB215}"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36" name=""/>
          <p:cNvGrpSpPr/>
          <p:nvPr/>
        </p:nvGrpSpPr>
        <p:grpSpPr>
          <a:xfrm>
            <a:off x="2010960" y="245520"/>
            <a:ext cx="7128000" cy="7923600"/>
            <a:chOff x="2010960" y="245520"/>
            <a:chExt cx="7128000" cy="7923600"/>
          </a:xfrm>
        </p:grpSpPr>
        <p:grpSp>
          <p:nvGrpSpPr>
            <p:cNvPr id="1337" name=""/>
            <p:cNvGrpSpPr/>
            <p:nvPr/>
          </p:nvGrpSpPr>
          <p:grpSpPr>
            <a:xfrm>
              <a:off x="3483000" y="954000"/>
              <a:ext cx="946080" cy="709560"/>
              <a:chOff x="3483000" y="954000"/>
              <a:chExt cx="946080" cy="709560"/>
            </a:xfrm>
          </p:grpSpPr>
          <p:sp>
            <p:nvSpPr>
              <p:cNvPr id="133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40" name=""/>
            <p:cNvGrpSpPr/>
            <p:nvPr/>
          </p:nvGrpSpPr>
          <p:grpSpPr>
            <a:xfrm>
              <a:off x="2010960" y="245520"/>
              <a:ext cx="7128000" cy="7705800"/>
              <a:chOff x="2010960" y="245520"/>
              <a:chExt cx="7128000" cy="7705800"/>
            </a:xfrm>
          </p:grpSpPr>
          <p:grpSp>
            <p:nvGrpSpPr>
              <p:cNvPr id="1341" name=""/>
              <p:cNvGrpSpPr/>
              <p:nvPr/>
            </p:nvGrpSpPr>
            <p:grpSpPr>
              <a:xfrm>
                <a:off x="2010960" y="245520"/>
                <a:ext cx="6891120" cy="5452200"/>
                <a:chOff x="2010960" y="245520"/>
                <a:chExt cx="6891120" cy="5452200"/>
              </a:xfrm>
            </p:grpSpPr>
            <p:grpSp>
              <p:nvGrpSpPr>
                <p:cNvPr id="1342" name=""/>
                <p:cNvGrpSpPr/>
                <p:nvPr/>
              </p:nvGrpSpPr>
              <p:grpSpPr>
                <a:xfrm>
                  <a:off x="3735720" y="1266120"/>
                  <a:ext cx="3599280" cy="2652120"/>
                  <a:chOff x="3735720" y="1266120"/>
                  <a:chExt cx="3599280" cy="2652120"/>
                </a:xfrm>
              </p:grpSpPr>
              <p:sp>
                <p:nvSpPr>
                  <p:cNvPr id="134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45" name=""/>
                <p:cNvGrpSpPr/>
                <p:nvPr/>
              </p:nvGrpSpPr>
              <p:grpSpPr>
                <a:xfrm>
                  <a:off x="2010960" y="245520"/>
                  <a:ext cx="6891120" cy="5452200"/>
                  <a:chOff x="2010960" y="245520"/>
                  <a:chExt cx="6891120" cy="5452200"/>
                </a:xfrm>
              </p:grpSpPr>
              <p:grpSp>
                <p:nvGrpSpPr>
                  <p:cNvPr id="1346" name=""/>
                  <p:cNvGrpSpPr/>
                  <p:nvPr/>
                </p:nvGrpSpPr>
                <p:grpSpPr>
                  <a:xfrm>
                    <a:off x="5762160" y="2322000"/>
                    <a:ext cx="2558520" cy="2742840"/>
                    <a:chOff x="5762160" y="2322000"/>
                    <a:chExt cx="2558520" cy="2742840"/>
                  </a:xfrm>
                </p:grpSpPr>
                <p:sp>
                  <p:nvSpPr>
                    <p:cNvPr id="134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49" name=""/>
                  <p:cNvGrpSpPr/>
                  <p:nvPr/>
                </p:nvGrpSpPr>
                <p:grpSpPr>
                  <a:xfrm>
                    <a:off x="5787720" y="2148480"/>
                    <a:ext cx="3040200" cy="2529360"/>
                    <a:chOff x="5787720" y="2148480"/>
                    <a:chExt cx="3040200" cy="2529360"/>
                  </a:xfrm>
                </p:grpSpPr>
                <p:sp>
                  <p:nvSpPr>
                    <p:cNvPr id="135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5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52" name=""/>
                  <p:cNvGrpSpPr/>
                  <p:nvPr/>
                </p:nvGrpSpPr>
                <p:grpSpPr>
                  <a:xfrm>
                    <a:off x="5776200" y="2065320"/>
                    <a:ext cx="3096360" cy="1992600"/>
                    <a:chOff x="5776200" y="2065320"/>
                    <a:chExt cx="3096360" cy="1992600"/>
                  </a:xfrm>
                </p:grpSpPr>
                <p:sp>
                  <p:nvSpPr>
                    <p:cNvPr id="135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5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55" name=""/>
                  <p:cNvGrpSpPr/>
                  <p:nvPr/>
                </p:nvGrpSpPr>
                <p:grpSpPr>
                  <a:xfrm>
                    <a:off x="5768280" y="1970280"/>
                    <a:ext cx="3133800" cy="1608120"/>
                    <a:chOff x="5768280" y="1970280"/>
                    <a:chExt cx="3133800" cy="1608120"/>
                  </a:xfrm>
                </p:grpSpPr>
                <p:sp>
                  <p:nvSpPr>
                    <p:cNvPr id="135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5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58" name=""/>
                  <p:cNvGrpSpPr/>
                  <p:nvPr/>
                </p:nvGrpSpPr>
                <p:grpSpPr>
                  <a:xfrm>
                    <a:off x="5806080" y="1879920"/>
                    <a:ext cx="2940120" cy="1001880"/>
                    <a:chOff x="5806080" y="1879920"/>
                    <a:chExt cx="2940120" cy="1001880"/>
                  </a:xfrm>
                </p:grpSpPr>
                <p:sp>
                  <p:nvSpPr>
                    <p:cNvPr id="135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6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1" name=""/>
                  <p:cNvGrpSpPr/>
                  <p:nvPr/>
                </p:nvGrpSpPr>
                <p:grpSpPr>
                  <a:xfrm>
                    <a:off x="5851440" y="1815480"/>
                    <a:ext cx="2658600" cy="446040"/>
                    <a:chOff x="5851440" y="1815480"/>
                    <a:chExt cx="2658600" cy="446040"/>
                  </a:xfrm>
                </p:grpSpPr>
                <p:sp>
                  <p:nvSpPr>
                    <p:cNvPr id="136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6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4" name=""/>
                  <p:cNvGrpSpPr/>
                  <p:nvPr/>
                </p:nvGrpSpPr>
                <p:grpSpPr>
                  <a:xfrm>
                    <a:off x="5788440" y="1303920"/>
                    <a:ext cx="2364120" cy="787320"/>
                    <a:chOff x="5788440" y="1303920"/>
                    <a:chExt cx="2364120" cy="787320"/>
                  </a:xfrm>
                </p:grpSpPr>
                <p:sp>
                  <p:nvSpPr>
                    <p:cNvPr id="136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6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7" name=""/>
                  <p:cNvGrpSpPr/>
                  <p:nvPr/>
                </p:nvGrpSpPr>
                <p:grpSpPr>
                  <a:xfrm>
                    <a:off x="2646720" y="2473920"/>
                    <a:ext cx="2556720" cy="2742120"/>
                    <a:chOff x="2646720" y="2473920"/>
                    <a:chExt cx="2556720" cy="2742120"/>
                  </a:xfrm>
                </p:grpSpPr>
                <p:sp>
                  <p:nvSpPr>
                    <p:cNvPr id="136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6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70" name=""/>
                  <p:cNvGrpSpPr/>
                  <p:nvPr/>
                </p:nvGrpSpPr>
                <p:grpSpPr>
                  <a:xfrm>
                    <a:off x="2085120" y="2366640"/>
                    <a:ext cx="3041280" cy="2529720"/>
                    <a:chOff x="2085120" y="2366640"/>
                    <a:chExt cx="3041280" cy="2529720"/>
                  </a:xfrm>
                </p:grpSpPr>
                <p:sp>
                  <p:nvSpPr>
                    <p:cNvPr id="137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7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73" name=""/>
                  <p:cNvGrpSpPr/>
                  <p:nvPr/>
                </p:nvGrpSpPr>
                <p:grpSpPr>
                  <a:xfrm>
                    <a:off x="2040840" y="2283480"/>
                    <a:ext cx="3096360" cy="1992600"/>
                    <a:chOff x="2040840" y="2283480"/>
                    <a:chExt cx="3096360" cy="1992600"/>
                  </a:xfrm>
                </p:grpSpPr>
                <p:sp>
                  <p:nvSpPr>
                    <p:cNvPr id="137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7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76" name=""/>
                  <p:cNvGrpSpPr/>
                  <p:nvPr/>
                </p:nvGrpSpPr>
                <p:grpSpPr>
                  <a:xfrm>
                    <a:off x="2010960" y="2188440"/>
                    <a:ext cx="3134160" cy="1607760"/>
                    <a:chOff x="2010960" y="2188440"/>
                    <a:chExt cx="3134160" cy="1607760"/>
                  </a:xfrm>
                </p:grpSpPr>
                <p:sp>
                  <p:nvSpPr>
                    <p:cNvPr id="137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7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79" name=""/>
                  <p:cNvGrpSpPr/>
                  <p:nvPr/>
                </p:nvGrpSpPr>
                <p:grpSpPr>
                  <a:xfrm>
                    <a:off x="2166120" y="2098080"/>
                    <a:ext cx="2940840" cy="1002240"/>
                    <a:chOff x="2166120" y="2098080"/>
                    <a:chExt cx="2940840" cy="1002240"/>
                  </a:xfrm>
                </p:grpSpPr>
                <p:sp>
                  <p:nvSpPr>
                    <p:cNvPr id="138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8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82" name=""/>
                  <p:cNvGrpSpPr/>
                  <p:nvPr/>
                </p:nvGrpSpPr>
                <p:grpSpPr>
                  <a:xfrm>
                    <a:off x="2403720" y="2033640"/>
                    <a:ext cx="2658600" cy="446040"/>
                    <a:chOff x="2403720" y="2033640"/>
                    <a:chExt cx="2658600" cy="446040"/>
                  </a:xfrm>
                </p:grpSpPr>
                <p:sp>
                  <p:nvSpPr>
                    <p:cNvPr id="138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8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85" name=""/>
                  <p:cNvGrpSpPr/>
                  <p:nvPr/>
                </p:nvGrpSpPr>
                <p:grpSpPr>
                  <a:xfrm>
                    <a:off x="2760840" y="1522440"/>
                    <a:ext cx="2363760" cy="787320"/>
                    <a:chOff x="2760840" y="1522440"/>
                    <a:chExt cx="2363760" cy="787320"/>
                  </a:xfrm>
                </p:grpSpPr>
                <p:sp>
                  <p:nvSpPr>
                    <p:cNvPr id="138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8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88" name=""/>
                  <p:cNvGrpSpPr/>
                  <p:nvPr/>
                </p:nvGrpSpPr>
                <p:grpSpPr>
                  <a:xfrm>
                    <a:off x="2887200" y="1236600"/>
                    <a:ext cx="2325240" cy="1084320"/>
                    <a:chOff x="2887200" y="1236600"/>
                    <a:chExt cx="2325240" cy="1084320"/>
                  </a:xfrm>
                </p:grpSpPr>
                <p:sp>
                  <p:nvSpPr>
                    <p:cNvPr id="138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9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1" name=""/>
                  <p:cNvGrpSpPr/>
                  <p:nvPr/>
                </p:nvGrpSpPr>
                <p:grpSpPr>
                  <a:xfrm>
                    <a:off x="3160440" y="831240"/>
                    <a:ext cx="2170800" cy="1508040"/>
                    <a:chOff x="3160440" y="831240"/>
                    <a:chExt cx="2170800" cy="1508040"/>
                  </a:xfrm>
                </p:grpSpPr>
                <p:sp>
                  <p:nvSpPr>
                    <p:cNvPr id="139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9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4" name=""/>
                  <p:cNvGrpSpPr/>
                  <p:nvPr/>
                </p:nvGrpSpPr>
                <p:grpSpPr>
                  <a:xfrm>
                    <a:off x="3437640" y="436320"/>
                    <a:ext cx="1987200" cy="1831320"/>
                    <a:chOff x="3437640" y="436320"/>
                    <a:chExt cx="1987200" cy="1831320"/>
                  </a:xfrm>
                </p:grpSpPr>
                <p:sp>
                  <p:nvSpPr>
                    <p:cNvPr id="139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9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7" name=""/>
                  <p:cNvGrpSpPr/>
                  <p:nvPr/>
                </p:nvGrpSpPr>
                <p:grpSpPr>
                  <a:xfrm>
                    <a:off x="4026960" y="335520"/>
                    <a:ext cx="1461240" cy="1885680"/>
                    <a:chOff x="4026960" y="335520"/>
                    <a:chExt cx="1461240" cy="1885680"/>
                  </a:xfrm>
                </p:grpSpPr>
                <p:sp>
                  <p:nvSpPr>
                    <p:cNvPr id="139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9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00" name=""/>
                  <p:cNvGrpSpPr/>
                  <p:nvPr/>
                </p:nvGrpSpPr>
                <p:grpSpPr>
                  <a:xfrm>
                    <a:off x="4448160" y="245520"/>
                    <a:ext cx="1121760" cy="1946520"/>
                    <a:chOff x="4448160" y="245520"/>
                    <a:chExt cx="1121760" cy="1946520"/>
                  </a:xfrm>
                </p:grpSpPr>
                <p:sp>
                  <p:nvSpPr>
                    <p:cNvPr id="140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03" name=""/>
                  <p:cNvGrpSpPr/>
                  <p:nvPr/>
                </p:nvGrpSpPr>
                <p:grpSpPr>
                  <a:xfrm>
                    <a:off x="5661720" y="952560"/>
                    <a:ext cx="2317320" cy="1112040"/>
                    <a:chOff x="5661720" y="952560"/>
                    <a:chExt cx="2317320" cy="1112040"/>
                  </a:xfrm>
                </p:grpSpPr>
                <p:sp>
                  <p:nvSpPr>
                    <p:cNvPr id="140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06" name=""/>
                  <p:cNvGrpSpPr/>
                  <p:nvPr/>
                </p:nvGrpSpPr>
                <p:grpSpPr>
                  <a:xfrm>
                    <a:off x="5529600" y="626400"/>
                    <a:ext cx="2198880" cy="1451160"/>
                    <a:chOff x="5529600" y="626400"/>
                    <a:chExt cx="2198880" cy="1451160"/>
                  </a:xfrm>
                </p:grpSpPr>
                <p:sp>
                  <p:nvSpPr>
                    <p:cNvPr id="140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0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11" name=""/>
                  <p:cNvGrpSpPr/>
                  <p:nvPr/>
                </p:nvGrpSpPr>
                <p:grpSpPr>
                  <a:xfrm>
                    <a:off x="5355720" y="270000"/>
                    <a:ext cx="1196280" cy="1901160"/>
                    <a:chOff x="5355720" y="270000"/>
                    <a:chExt cx="1196280" cy="1901160"/>
                  </a:xfrm>
                </p:grpSpPr>
                <p:sp>
                  <p:nvSpPr>
                    <p:cNvPr id="141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4" name=""/>
                  <p:cNvGrpSpPr/>
                  <p:nvPr/>
                </p:nvGrpSpPr>
                <p:grpSpPr>
                  <a:xfrm>
                    <a:off x="5347440" y="388800"/>
                    <a:ext cx="1891440" cy="1796760"/>
                    <a:chOff x="5347440" y="388800"/>
                    <a:chExt cx="1891440" cy="1796760"/>
                  </a:xfrm>
                </p:grpSpPr>
                <p:sp>
                  <p:nvSpPr>
                    <p:cNvPr id="141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7" name=""/>
                  <p:cNvGrpSpPr/>
                  <p:nvPr/>
                </p:nvGrpSpPr>
                <p:grpSpPr>
                  <a:xfrm>
                    <a:off x="5458320" y="292680"/>
                    <a:ext cx="426960" cy="1795320"/>
                    <a:chOff x="5458320" y="292680"/>
                    <a:chExt cx="426960" cy="1795320"/>
                  </a:xfrm>
                </p:grpSpPr>
                <p:sp>
                  <p:nvSpPr>
                    <p:cNvPr id="141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20" name=""/>
                  <p:cNvGrpSpPr/>
                  <p:nvPr/>
                </p:nvGrpSpPr>
                <p:grpSpPr>
                  <a:xfrm>
                    <a:off x="3062880" y="2530440"/>
                    <a:ext cx="2195280" cy="3003480"/>
                    <a:chOff x="3062880" y="2530440"/>
                    <a:chExt cx="2195280" cy="3003480"/>
                  </a:xfrm>
                </p:grpSpPr>
                <p:sp>
                  <p:nvSpPr>
                    <p:cNvPr id="142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3" name=""/>
                  <p:cNvGrpSpPr/>
                  <p:nvPr/>
                </p:nvGrpSpPr>
                <p:grpSpPr>
                  <a:xfrm>
                    <a:off x="3791520" y="2650320"/>
                    <a:ext cx="1482840" cy="3000240"/>
                    <a:chOff x="3791520" y="2650320"/>
                    <a:chExt cx="1482840" cy="3000240"/>
                  </a:xfrm>
                </p:grpSpPr>
                <p:sp>
                  <p:nvSpPr>
                    <p:cNvPr id="142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6" name=""/>
                  <p:cNvGrpSpPr/>
                  <p:nvPr/>
                </p:nvGrpSpPr>
                <p:grpSpPr>
                  <a:xfrm>
                    <a:off x="4509000" y="2703240"/>
                    <a:ext cx="874800" cy="2927520"/>
                    <a:chOff x="4509000" y="2703240"/>
                    <a:chExt cx="874800" cy="2927520"/>
                  </a:xfrm>
                </p:grpSpPr>
                <p:sp>
                  <p:nvSpPr>
                    <p:cNvPr id="142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9" name=""/>
                  <p:cNvGrpSpPr/>
                  <p:nvPr/>
                </p:nvGrpSpPr>
                <p:grpSpPr>
                  <a:xfrm>
                    <a:off x="5678280" y="2482920"/>
                    <a:ext cx="2280240" cy="2953800"/>
                    <a:chOff x="5678280" y="2482920"/>
                    <a:chExt cx="2280240" cy="2953800"/>
                  </a:xfrm>
                </p:grpSpPr>
                <p:sp>
                  <p:nvSpPr>
                    <p:cNvPr id="143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32" name=""/>
                  <p:cNvGrpSpPr/>
                  <p:nvPr/>
                </p:nvGrpSpPr>
                <p:grpSpPr>
                  <a:xfrm>
                    <a:off x="5648400" y="2593440"/>
                    <a:ext cx="1758240" cy="3032280"/>
                    <a:chOff x="5648400" y="2593440"/>
                    <a:chExt cx="1758240" cy="3032280"/>
                  </a:xfrm>
                </p:grpSpPr>
                <p:sp>
                  <p:nvSpPr>
                    <p:cNvPr id="143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35" name=""/>
                  <p:cNvGrpSpPr/>
                  <p:nvPr/>
                </p:nvGrpSpPr>
                <p:grpSpPr>
                  <a:xfrm>
                    <a:off x="5576400" y="2710800"/>
                    <a:ext cx="1224720" cy="2986920"/>
                    <a:chOff x="5576400" y="2710800"/>
                    <a:chExt cx="1224720" cy="2986920"/>
                  </a:xfrm>
                </p:grpSpPr>
                <p:sp>
                  <p:nvSpPr>
                    <p:cNvPr id="143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38" name=""/>
                  <p:cNvGrpSpPr/>
                  <p:nvPr/>
                </p:nvGrpSpPr>
                <p:grpSpPr>
                  <a:xfrm>
                    <a:off x="5521320" y="2840760"/>
                    <a:ext cx="696960" cy="2777400"/>
                    <a:chOff x="5521320" y="2840760"/>
                    <a:chExt cx="696960" cy="2777400"/>
                  </a:xfrm>
                </p:grpSpPr>
                <p:sp>
                  <p:nvSpPr>
                    <p:cNvPr id="143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1" name=""/>
                  <p:cNvGrpSpPr/>
                  <p:nvPr/>
                </p:nvGrpSpPr>
                <p:grpSpPr>
                  <a:xfrm>
                    <a:off x="4960800" y="2887560"/>
                    <a:ext cx="663480" cy="2717640"/>
                    <a:chOff x="4960800" y="2887560"/>
                    <a:chExt cx="663480" cy="2717640"/>
                  </a:xfrm>
                </p:grpSpPr>
                <p:sp>
                  <p:nvSpPr>
                    <p:cNvPr id="144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444" name=""/>
              <p:cNvGrpSpPr/>
              <p:nvPr/>
            </p:nvGrpSpPr>
            <p:grpSpPr>
              <a:xfrm>
                <a:off x="2175120" y="682560"/>
                <a:ext cx="6963840" cy="7268760"/>
                <a:chOff x="2175120" y="682560"/>
                <a:chExt cx="6963840" cy="7268760"/>
              </a:xfrm>
            </p:grpSpPr>
            <p:grpSp>
              <p:nvGrpSpPr>
                <p:cNvPr id="1445" name=""/>
                <p:cNvGrpSpPr/>
                <p:nvPr/>
              </p:nvGrpSpPr>
              <p:grpSpPr>
                <a:xfrm>
                  <a:off x="2175120" y="682560"/>
                  <a:ext cx="6963840" cy="7268760"/>
                  <a:chOff x="2175120" y="682560"/>
                  <a:chExt cx="6963840" cy="7268760"/>
                </a:xfrm>
              </p:grpSpPr>
              <p:sp>
                <p:nvSpPr>
                  <p:cNvPr id="144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5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454" name=""/>
            <p:cNvGrpSpPr/>
            <p:nvPr/>
          </p:nvGrpSpPr>
          <p:grpSpPr>
            <a:xfrm>
              <a:off x="2342880" y="712800"/>
              <a:ext cx="6410160" cy="7456320"/>
              <a:chOff x="2342880" y="712800"/>
              <a:chExt cx="6410160" cy="7456320"/>
            </a:xfrm>
          </p:grpSpPr>
          <p:sp>
            <p:nvSpPr>
              <p:cNvPr id="145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46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470" name="PlaceHolder 2"/>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471"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472" name="PlaceHolder 4"/>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9692-FC77-4F9A-8F9C-4F1EC7F2575C}"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09" name=""/>
          <p:cNvGrpSpPr/>
          <p:nvPr/>
        </p:nvGrpSpPr>
        <p:grpSpPr>
          <a:xfrm>
            <a:off x="318960" y="1828800"/>
            <a:ext cx="8825040" cy="5029200"/>
            <a:chOff x="318960" y="1828800"/>
            <a:chExt cx="8825040" cy="5029200"/>
          </a:xfrm>
        </p:grpSpPr>
        <p:sp>
          <p:nvSpPr>
            <p:cNvPr id="151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51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1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1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51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518" name="PlaceHolder 1"/>
          <p:cNvSpPr>
            <a:spLocks noGrp="1"/>
          </p:cNvSpPr>
          <p:nvPr>
            <p:ph type="dt" idx="6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19" name="PlaceHolder 2"/>
          <p:cNvSpPr>
            <a:spLocks noGrp="1"/>
          </p:cNvSpPr>
          <p:nvPr>
            <p:ph type="ftr" idx="6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20" name="PlaceHolder 3"/>
          <p:cNvSpPr>
            <a:spLocks noGrp="1"/>
          </p:cNvSpPr>
          <p:nvPr>
            <p:ph type="sldNum" idx="6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AFD8-7859-45E3-B130-188A50B9C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2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59" name=""/>
          <p:cNvGrpSpPr/>
          <p:nvPr/>
        </p:nvGrpSpPr>
        <p:grpSpPr>
          <a:xfrm>
            <a:off x="318960" y="1752480"/>
            <a:ext cx="8825040" cy="5129280"/>
            <a:chOff x="318960" y="1752480"/>
            <a:chExt cx="8825040" cy="5129280"/>
          </a:xfrm>
        </p:grpSpPr>
        <p:sp>
          <p:nvSpPr>
            <p:cNvPr id="156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56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56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6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56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567" name="PlaceHolder 2"/>
          <p:cNvSpPr>
            <a:spLocks noGrp="1"/>
          </p:cNvSpPr>
          <p:nvPr>
            <p:ph type="dt" idx="7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68" name="PlaceHolder 3"/>
          <p:cNvSpPr>
            <a:spLocks noGrp="1"/>
          </p:cNvSpPr>
          <p:nvPr>
            <p:ph type="ftr" idx="7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69" name="PlaceHolder 4"/>
          <p:cNvSpPr>
            <a:spLocks noGrp="1"/>
          </p:cNvSpPr>
          <p:nvPr>
            <p:ph type="sldNum" idx="7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CD2C-093C-4B9B-8AB7-DE4A00B3C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8"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09"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10"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985C-A56E-4CA4-9721-77E7C5DF6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1" name=""/>
          <p:cNvGrpSpPr/>
          <p:nvPr/>
        </p:nvGrpSpPr>
        <p:grpSpPr>
          <a:xfrm>
            <a:off x="0" y="0"/>
            <a:ext cx="7620120" cy="6858000"/>
            <a:chOff x="0" y="0"/>
            <a:chExt cx="7620120" cy="6858000"/>
          </a:xfrm>
        </p:grpSpPr>
        <p:grpSp>
          <p:nvGrpSpPr>
            <p:cNvPr id="122" name=""/>
            <p:cNvGrpSpPr/>
            <p:nvPr/>
          </p:nvGrpSpPr>
          <p:grpSpPr>
            <a:xfrm>
              <a:off x="0" y="0"/>
              <a:ext cx="3200400" cy="6858000"/>
              <a:chOff x="0" y="0"/>
              <a:chExt cx="3200400" cy="6858000"/>
            </a:xfrm>
          </p:grpSpPr>
          <p:sp>
            <p:nvSpPr>
              <p:cNvPr id="123" name=""/>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cc3300"/>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125" name=""/>
            <p:cNvGrpSpPr/>
            <p:nvPr/>
          </p:nvGrpSpPr>
          <p:grpSpPr>
            <a:xfrm>
              <a:off x="228600" y="1981080"/>
              <a:ext cx="7391520" cy="319320"/>
              <a:chOff x="228600" y="1981080"/>
              <a:chExt cx="7391520" cy="319320"/>
            </a:xfrm>
          </p:grpSpPr>
          <p:sp>
            <p:nvSpPr>
              <p:cNvPr id="126" name=""/>
              <p:cNvSpPr/>
              <p:nvPr/>
            </p:nvSpPr>
            <p:spPr>
              <a:xfrm>
                <a:off x="609480" y="1981080"/>
                <a:ext cx="701064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flipH="1">
                <a:off x="228600" y="1981080"/>
                <a:ext cx="393840" cy="31932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0"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1"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2"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FD4F-DC59-4EE8-A10E-F1AAB91A5F08}" type="slidenum">
              <a:rPr b="1" lang="en-US" sz="2600" spc="-1" strike="noStrike">
                <a:solidFill>
                  <a:srgbClr val="000000"/>
                </a:solidFill>
                <a:latin typeface="Times New Roman"/>
              </a:rPr>
              <a:t>&lt;number&gt;</a:t>
            </a:fld>
            <a:endParaRPr b="0" lang="en-US" sz="2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69" name=""/>
          <p:cNvGrpSpPr/>
          <p:nvPr/>
        </p:nvGrpSpPr>
        <p:grpSpPr>
          <a:xfrm>
            <a:off x="0" y="0"/>
            <a:ext cx="5867280" cy="6858000"/>
            <a:chOff x="0" y="0"/>
            <a:chExt cx="5867280" cy="6858000"/>
          </a:xfrm>
        </p:grpSpPr>
        <p:sp>
          <p:nvSpPr>
            <p:cNvPr id="170" name=""/>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685800" y="990720"/>
              <a:ext cx="5181480" cy="1904760"/>
            </a:xfrm>
            <a:prstGeom prst="roundRect">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2" name=""/>
          <p:cNvGrpSpPr/>
          <p:nvPr/>
        </p:nvGrpSpPr>
        <p:grpSpPr>
          <a:xfrm>
            <a:off x="3632040" y="4889520"/>
            <a:ext cx="4876920" cy="318960"/>
            <a:chOff x="3632040" y="4889520"/>
            <a:chExt cx="4876920" cy="318960"/>
          </a:xfrm>
        </p:grpSpPr>
        <p:sp>
          <p:nvSpPr>
            <p:cNvPr id="173" name=""/>
            <p:cNvSpPr/>
            <p:nvPr/>
          </p:nvSpPr>
          <p:spPr>
            <a:xfrm flipH="1">
              <a:off x="3632040" y="4889520"/>
              <a:ext cx="462600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8248680" y="4889520"/>
              <a:ext cx="260280" cy="31896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5" name="PlaceHolder 1"/>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ffffff"/>
              </a:solidFill>
              <a:latin typeface="Times New Roman"/>
            </a:endParaRPr>
          </a:p>
        </p:txBody>
      </p:sp>
      <p:sp>
        <p:nvSpPr>
          <p:cNvPr id="176" name="PlaceHolder 2"/>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77" name="PlaceHolder 3"/>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F146-68A7-427A-BDF7-8E6823C1E3A3}" type="slidenum">
              <a:rPr b="1" lang="en-US" sz="2600" spc="-1" strike="noStrike">
                <a:solidFill>
                  <a:srgbClr val="000000"/>
                </a:solidFill>
                <a:latin typeface="Times New Roman"/>
              </a:rPr>
              <a:t>&lt;number&gt;</a:t>
            </a:fld>
            <a:endParaRPr b="0" lang="en-US" sz="2600" spc="-1" strike="noStrike">
              <a:solidFill>
                <a:srgbClr val="ffffff"/>
              </a:solidFill>
              <a:latin typeface="Times New Roman"/>
            </a:endParaRPr>
          </a:p>
        </p:txBody>
      </p:sp>
      <p:sp>
        <p:nvSpPr>
          <p:cNvPr id="178"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
          <p:cNvGrpSpPr/>
          <p:nvPr/>
        </p:nvGrpSpPr>
        <p:grpSpPr>
          <a:xfrm>
            <a:off x="0" y="152280"/>
            <a:ext cx="8686800" cy="6096240"/>
            <a:chOff x="0" y="152280"/>
            <a:chExt cx="8686800" cy="6096240"/>
          </a:xfrm>
        </p:grpSpPr>
        <p:sp>
          <p:nvSpPr>
            <p:cNvPr id="216"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20"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B360-1293-4296-B78B-CE8F24CD4F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
          <p:cNvGrpSpPr/>
          <p:nvPr/>
        </p:nvGrpSpPr>
        <p:grpSpPr>
          <a:xfrm>
            <a:off x="0" y="927000"/>
            <a:ext cx="8991720" cy="4496040"/>
            <a:chOff x="0" y="927000"/>
            <a:chExt cx="8991720" cy="4496040"/>
          </a:xfrm>
        </p:grpSpPr>
        <p:sp>
          <p:nvSpPr>
            <p:cNvPr id="261"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5"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266" name="PlaceHolder 2"/>
          <p:cNvSpPr>
            <a:spLocks noGrp="1"/>
          </p:cNvSpPr>
          <p:nvPr>
            <p:ph type="dt" idx="16"/>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3"/>
          <p:cNvSpPr>
            <a:spLocks noGrp="1"/>
          </p:cNvSpPr>
          <p:nvPr>
            <p:ph type="ftr" idx="17"/>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PlaceHolder 4"/>
          <p:cNvSpPr>
            <a:spLocks noGrp="1"/>
          </p:cNvSpPr>
          <p:nvPr>
            <p:ph type="sldNum" idx="18"/>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6C93-61C5-489C-86D0-7C692CAD48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307"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08"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09"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E3F6-B9A8-427B-9814-D5F108CBBA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0"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2" name=""/>
          <p:cNvGrpSpPr/>
          <p:nvPr/>
        </p:nvGrpSpPr>
        <p:grpSpPr>
          <a:xfrm>
            <a:off x="228600" y="457200"/>
            <a:ext cx="1246320" cy="1371600"/>
            <a:chOff x="228600" y="457200"/>
            <a:chExt cx="1246320" cy="1371600"/>
          </a:xfrm>
        </p:grpSpPr>
        <p:sp>
          <p:nvSpPr>
            <p:cNvPr id="313"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6"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364"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65"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66"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2B5E-BF13-4F40-AB1E-43B05D9990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7"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8" name=""/>
          <p:cNvGrpSpPr/>
          <p:nvPr/>
        </p:nvGrpSpPr>
        <p:grpSpPr>
          <a:xfrm>
            <a:off x="228600" y="1447920"/>
            <a:ext cx="2286000" cy="2514600"/>
            <a:chOff x="228600" y="1447920"/>
            <a:chExt cx="2286000" cy="2514600"/>
          </a:xfrm>
        </p:grpSpPr>
        <p:sp>
          <p:nvSpPr>
            <p:cNvPr id="369"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2"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1"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2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23"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1C6F-BE88-4332-A408-21A4C1945E0D}"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24"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9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it.wikipedia.org/wiki/III_millennio_a.C." TargetMode="External"/><Relationship Id="rId3" Type="http://schemas.openxmlformats.org/officeDocument/2006/relationships/hyperlink" Target="http://it.wikipedia.org/wiki/III_millennio_a.C." TargetMode="External"/><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7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82.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95.xml"/>
</Relationships>
</file>

<file path=ppt/slides/_rels/slide27.xml.rels><?xml version="1.0" encoding="UTF-8"?>
<Relationships xmlns="http://schemas.openxmlformats.org/package/2006/relationships"><Relationship Id="rId1" Type="http://schemas.openxmlformats.org/officeDocument/2006/relationships/hyperlink" Target="http://it.wikipedia.org/w/index.php?title=Tiglat-Pileser_I&amp;action=edit&amp;redlink=1" TargetMode="External"/><Relationship Id="rId2" Type="http://schemas.openxmlformats.org/officeDocument/2006/relationships/hyperlink" Target="http://it.wikipedia.org/w/index.php?title=Tiglat-Pileser_I&amp;action=edit&amp;redlink=1" TargetMode="External"/><Relationship Id="rId3" Type="http://schemas.openxmlformats.org/officeDocument/2006/relationships/slideLayout" Target="../slideLayouts/slideLayout26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90.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9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9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37.xml.rels><?xml version="1.0" encoding="UTF-8"?>
<Relationships xmlns="http://schemas.openxmlformats.org/package/2006/relationships"><Relationship Id="rId1" Type="http://schemas.openxmlformats.org/officeDocument/2006/relationships/hyperlink" Target="http://it.wikipedia.org/wiki/Assiria" TargetMode="External"/><Relationship Id="rId2" Type="http://schemas.openxmlformats.org/officeDocument/2006/relationships/hyperlink" Target="http://it.wikipedia.org/wiki/Assiria" TargetMode="External"/><Relationship Id="rId3" Type="http://schemas.openxmlformats.org/officeDocument/2006/relationships/hyperlink" Target="http://it.wikipedia.org/wiki/Assiria" TargetMode="External"/><Relationship Id="rId4" Type="http://schemas.openxmlformats.org/officeDocument/2006/relationships/hyperlink" Target="http://it.wikipedia.org/wiki/Assiria" TargetMode="External"/><Relationship Id="rId5" Type="http://schemas.openxmlformats.org/officeDocument/2006/relationships/hyperlink" Target="http://it.wikipedia.org/wiki/Assiria" TargetMode="External"/><Relationship Id="rId6" Type="http://schemas.openxmlformats.org/officeDocument/2006/relationships/hyperlink" Target="http://it.wikipedia.org/wiki/Assiria" TargetMode="External"/><Relationship Id="rId7" Type="http://schemas.openxmlformats.org/officeDocument/2006/relationships/hyperlink" Target="http://www.silab.it/storia/?pageurl=07-l-assiria" TargetMode="External"/><Relationship Id="rId8" Type="http://schemas.openxmlformats.org/officeDocument/2006/relationships/hyperlink" Target="http://it.wikipedia.org/wiki/Babilonesi#Secondo_impero_babilonese" TargetMode="External"/><Relationship Id="rId9" Type="http://schemas.openxmlformats.org/officeDocument/2006/relationships/hyperlink" Target="http://it.wikipedia.org/wiki/Babilonesi#Secondo_impero_babilonese" TargetMode="External"/><Relationship Id="rId10" Type="http://schemas.openxmlformats.org/officeDocument/2006/relationships/hyperlink" Target="http://it.wikipedia.org/wiki/Babilonesi#Secondo_impero_babilonese" TargetMode="External"/><Relationship Id="rId11" Type="http://schemas.openxmlformats.org/officeDocument/2006/relationships/hyperlink" Target="http://it.wikipedia.org/wiki/Babilonesi#Secondo_impero_babilonese" TargetMode="External"/><Relationship Id="rId12" Type="http://schemas.openxmlformats.org/officeDocument/2006/relationships/hyperlink" Target="http://it.wikipedia.org/wiki/Babilonesi#Secondo_impero_babilonese" TargetMode="External"/><Relationship Id="rId13" Type="http://schemas.openxmlformats.org/officeDocument/2006/relationships/hyperlink" Target="http://www.franco-felicetti.it/apriDocumento.asp?nome=antica_mod8.pdf" TargetMode="External"/><Relationship Id="rId14" Type="http://schemas.openxmlformats.org/officeDocument/2006/relationships/hyperlink" Target="http://www.franco-felicetti.it/apriDocumento.asp?nome=antica_mod8.pdf" TargetMode="External"/><Relationship Id="rId15" Type="http://schemas.openxmlformats.org/officeDocument/2006/relationships/hyperlink" Target="http://www.franco-felicetti.it/apriDocumento.asp?nome=antica_mod8.pdf" TargetMode="External"/><Relationship Id="rId16" Type="http://schemas.openxmlformats.org/officeDocument/2006/relationships/hyperlink" Target="http://www.lamiasardegna.it/images/924/008.gif" TargetMode="External"/><Relationship Id="rId17" Type="http://schemas.openxmlformats.org/officeDocument/2006/relationships/hyperlink" Target="http://www.lamiasardegna.it/images/924/008.gif" TargetMode="External"/><Relationship Id="rId18" Type="http://schemas.openxmlformats.org/officeDocument/2006/relationships/hyperlink" Target="http://www.lamiasardegna.it/images/924/008.gif" TargetMode="External"/><Relationship Id="rId19" Type="http://schemas.openxmlformats.org/officeDocument/2006/relationships/image" Target="../media/image29.png"/><Relationship Id="rId20" Type="http://schemas.openxmlformats.org/officeDocument/2006/relationships/slideLayout" Target="../slideLayouts/slideLayout289.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2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9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4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250560" y="260280"/>
            <a:ext cx="889308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BABILONESI  </a:t>
            </a:r>
            <a:r>
              <a:rPr b="1" lang="en-US" sz="4200" spc="-1" strike="noStrike">
                <a:solidFill>
                  <a:srgbClr val="006633"/>
                </a:solidFill>
                <a:latin typeface="Garamond"/>
              </a:rPr>
              <a:t>    </a:t>
            </a:r>
            <a:r>
              <a:rPr b="1" lang="en-US" sz="4200" spc="-1" strike="noStrike">
                <a:solidFill>
                  <a:srgbClr val="006633"/>
                </a:solidFill>
                <a:latin typeface="Times New Roman"/>
              </a:rPr>
              <a:t>E             ASSIRI</a:t>
            </a:r>
            <a:endParaRPr b="0" lang="en-US" sz="4200" spc="-1" strike="noStrike">
              <a:solidFill>
                <a:srgbClr val="006633"/>
              </a:solidFill>
              <a:latin typeface="Garamond"/>
            </a:endParaRPr>
          </a:p>
        </p:txBody>
      </p:sp>
      <p:sp>
        <p:nvSpPr>
          <p:cNvPr id="1655" name="PlaceHolder 2"/>
          <p:cNvSpPr>
            <a:spLocks noGrp="1"/>
          </p:cNvSpPr>
          <p:nvPr>
            <p:ph type="subTitle"/>
          </p:nvPr>
        </p:nvSpPr>
        <p:spPr>
          <a:xfrm>
            <a:off x="0" y="836640"/>
            <a:ext cx="9144000" cy="2016000"/>
          </a:xfrm>
          <a:prstGeom prst="rect">
            <a:avLst/>
          </a:prstGeom>
          <a:solidFill>
            <a:srgbClr val="cc9900"/>
          </a:solid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Una presentazione di :</a:t>
            </a: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Cassani Lisa, Arturo Chesi Visani, Dardi Mario, e Fabbri Erica</a:t>
            </a:r>
            <a:endParaRPr b="0" lang="en-US" sz="3600" spc="-1" strike="noStrike">
              <a:solidFill>
                <a:srgbClr val="000000"/>
              </a:solidFill>
              <a:latin typeface="Arial"/>
            </a:endParaRPr>
          </a:p>
        </p:txBody>
      </p:sp>
      <p:pic>
        <p:nvPicPr>
          <p:cNvPr id="1656" name="" descr=""/>
          <p:cNvPicPr/>
          <p:nvPr/>
        </p:nvPicPr>
        <p:blipFill>
          <a:blip r:embed="rId1"/>
          <a:stretch/>
        </p:blipFill>
        <p:spPr>
          <a:xfrm>
            <a:off x="0" y="2852640"/>
            <a:ext cx="9144000" cy="4243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6" name="Picture 2" descr=""/>
          <p:cNvPicPr/>
          <p:nvPr/>
        </p:nvPicPr>
        <p:blipFill>
          <a:blip r:embed="rId1"/>
          <a:stretch/>
        </p:blipFill>
        <p:spPr>
          <a:xfrm>
            <a:off x="0" y="1214280"/>
            <a:ext cx="9144000" cy="5643720"/>
          </a:xfrm>
          <a:prstGeom prst="rect">
            <a:avLst/>
          </a:prstGeom>
          <a:ln w="0">
            <a:noFill/>
          </a:ln>
        </p:spPr>
      </p:pic>
      <p:pic>
        <p:nvPicPr>
          <p:cNvPr id="1687" name="Rettangolo 4" descr=""/>
          <p:cNvPicPr/>
          <p:nvPr/>
        </p:nvPicPr>
        <p:blipFill>
          <a:blip r:embed="rId2"/>
          <a:stretch/>
        </p:blipFill>
        <p:spPr>
          <a:xfrm>
            <a:off x="231840" y="-182520"/>
            <a:ext cx="8826480" cy="1944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88" name=""/>
          <p:cNvSpPr txBox="1"/>
          <p:nvPr/>
        </p:nvSpPr>
        <p:spPr>
          <a:xfrm>
            <a:off x="285840" y="1428480"/>
            <a:ext cx="5829120" cy="5429160"/>
          </a:xfrm>
          <a:prstGeom prst="rect">
            <a:avLst/>
          </a:prstGeom>
          <a:noFill/>
          <a:ln w="0">
            <a:noFill/>
          </a:ln>
        </p:spPr>
        <p:txBody>
          <a:bodyPr anchor="t">
            <a:normAutofit/>
          </a:bodyPr>
          <a:p>
            <a:pPr marL="343080" indent="-3430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Babele e la Babilonia nel 1750 a. C.,al crollo dell'impero di Ammurabi, conobbero un lunghissimo periodo di declino, quasi ottocento anni.</a:t>
            </a:r>
            <a:endParaRPr b="0" lang="en-US" sz="3400" spc="-1" strike="noStrike">
              <a:solidFill>
                <a:srgbClr val="000000"/>
              </a:solidFill>
              <a:latin typeface="Arial"/>
            </a:endParaRPr>
          </a:p>
          <a:p>
            <a:pPr marL="343080" indent="-3430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Anche con questa fine il loro prestigio come antichissima civiltà rimase di continuo abbondante per tutto il periodo.</a:t>
            </a:r>
            <a:endParaRPr b="0" lang="en-US" sz="3400" spc="-1" strike="noStrike">
              <a:solidFill>
                <a:srgbClr val="000000"/>
              </a:solidFill>
              <a:latin typeface="Arial"/>
            </a:endParaRPr>
          </a:p>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689" name="Rettangolo 3" descr=""/>
          <p:cNvPicPr/>
          <p:nvPr/>
        </p:nvPicPr>
        <p:blipFill>
          <a:blip r:embed="rId1"/>
          <a:stretch/>
        </p:blipFill>
        <p:spPr>
          <a:xfrm>
            <a:off x="993600" y="109440"/>
            <a:ext cx="6510600" cy="1103400"/>
          </a:xfrm>
          <a:prstGeom prst="rect">
            <a:avLst/>
          </a:prstGeom>
          <a:ln w="0">
            <a:noFill/>
          </a:ln>
        </p:spPr>
      </p:pic>
      <p:pic>
        <p:nvPicPr>
          <p:cNvPr id="1690" name="Picture 3" descr=""/>
          <p:cNvPicPr/>
          <p:nvPr/>
        </p:nvPicPr>
        <p:blipFill>
          <a:blip r:embed="rId2"/>
          <a:stretch/>
        </p:blipFill>
        <p:spPr>
          <a:xfrm>
            <a:off x="5929200" y="2286000"/>
            <a:ext cx="2714760" cy="2036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0800000"/>
        </a:gradFill>
      </p:bgPr>
    </p:bg>
    <p:spTree>
      <p:nvGrpSpPr>
        <p:cNvPr id="1" name=""/>
        <p:cNvGrpSpPr/>
        <p:nvPr/>
      </p:nvGrpSpPr>
      <p:grpSpPr>
        <a:xfrm>
          <a:off x="0" y="0"/>
          <a:ext cx="0" cy="0"/>
          <a:chOff x="0" y="0"/>
          <a:chExt cx="0" cy="0"/>
        </a:xfrm>
      </p:grpSpPr>
      <p:sp>
        <p:nvSpPr>
          <p:cNvPr id="1691" name=""/>
          <p:cNvSpPr txBox="1"/>
          <p:nvPr/>
        </p:nvSpPr>
        <p:spPr>
          <a:xfrm>
            <a:off x="571680" y="164304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bele fu sempre e comunque guardata con rispetto come la patria di antiche culture.</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 tanto in tanto, essa aveva assunto anche una certa supremazia sulle altre città della Mesopotamia meridionale come, per esempio,  la vecchia Babilonia ma era stata sempre una cosa breve.</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2" name="Rettangolo 3"/>
          <p:cNvSpPr/>
          <p:nvPr/>
        </p:nvSpPr>
        <p:spPr>
          <a:xfrm>
            <a:off x="1357200" y="428760"/>
            <a:ext cx="6143760" cy="121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800" spc="-1" strike="noStrike">
                <a:solidFill>
                  <a:srgbClr val="ffffff"/>
                </a:solidFill>
                <a:latin typeface="Calibri"/>
              </a:rPr>
              <a:t>…………</a:t>
            </a:r>
            <a:r>
              <a:rPr b="0" lang="it-IT" sz="8800" spc="-1" strike="noStrike">
                <a:solidFill>
                  <a:srgbClr val="ffffff"/>
                </a:solidFill>
                <a:latin typeface="Calibri"/>
              </a:rPr>
              <a:t>.</a:t>
            </a:r>
            <a:endParaRPr b="0" lang="en-US" sz="8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path path="rect">
            <a:fillToRect l="50000" t="50000" r="50000" b="50000"/>
          </a:path>
        </a:gradFill>
      </p:bgPr>
    </p:bg>
    <p:spTree>
      <p:nvGrpSpPr>
        <p:cNvPr id="1" name=""/>
        <p:cNvGrpSpPr/>
        <p:nvPr/>
      </p:nvGrpSpPr>
      <p:grpSpPr>
        <a:xfrm>
          <a:off x="0" y="0"/>
          <a:ext cx="0" cy="0"/>
          <a:chOff x="0" y="0"/>
          <a:chExt cx="0" cy="0"/>
        </a:xfrm>
      </p:grpSpPr>
      <p:sp>
        <p:nvSpPr>
          <p:cNvPr id="1693" name=""/>
          <p:cNvSpPr txBox="1"/>
          <p:nvPr/>
        </p:nvSpPr>
        <p:spPr>
          <a:xfrm>
            <a:off x="213840" y="1642680"/>
            <a:ext cx="8643960" cy="50720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sa riprese il suo cammino verso una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rande ricostruzione per ritornare all’antico splendore solo nel 600 a.C. con Nabopolassar che si era dichiarato re di Babele approfittando di un momento di debolezza dell'impero assiro, di cui era stato un burocrat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radualmente, anche le città della Mesopotamia centrale venivano piegandosi allo stratega caldeo; e una coalizione di Nabopolassar con Ciassarre siglava la fine dell'impero assiro. </a:t>
            </a:r>
            <a:endParaRPr b="0" lang="en-US" sz="2800" spc="-1" strike="noStrike">
              <a:solidFill>
                <a:srgbClr val="000000"/>
              </a:solidFill>
              <a:latin typeface="Arial"/>
            </a:endParaRPr>
          </a:p>
        </p:txBody>
      </p:sp>
      <p:pic>
        <p:nvPicPr>
          <p:cNvPr id="1694" name="Rettangolo 3" descr=""/>
          <p:cNvPicPr/>
          <p:nvPr/>
        </p:nvPicPr>
        <p:blipFill>
          <a:blip r:embed="rId1"/>
          <a:stretch/>
        </p:blipFill>
        <p:spPr>
          <a:xfrm>
            <a:off x="1328760" y="-171360"/>
            <a:ext cx="5535720" cy="1933560"/>
          </a:xfrm>
          <a:prstGeom prst="rect">
            <a:avLst/>
          </a:prstGeom>
          <a:ln w="0">
            <a:noFill/>
          </a:ln>
        </p:spPr>
      </p:pic>
      <p:pic>
        <p:nvPicPr>
          <p:cNvPr id="1695" name="Picture 2" descr=""/>
          <p:cNvPicPr/>
          <p:nvPr/>
        </p:nvPicPr>
        <p:blipFill>
          <a:blip r:embed="rId2"/>
          <a:stretch/>
        </p:blipFill>
        <p:spPr>
          <a:xfrm>
            <a:off x="6929280" y="285840"/>
            <a:ext cx="1857600" cy="185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8100000"/>
        </a:gradFill>
      </p:bgPr>
    </p:bg>
    <p:spTree>
      <p:nvGrpSpPr>
        <p:cNvPr id="1" name=""/>
        <p:cNvGrpSpPr/>
        <p:nvPr/>
      </p:nvGrpSpPr>
      <p:grpSpPr>
        <a:xfrm>
          <a:off x="0" y="0"/>
          <a:ext cx="0" cy="0"/>
          <a:chOff x="0" y="0"/>
          <a:chExt cx="0" cy="0"/>
        </a:xfrm>
      </p:grpSpPr>
      <p:sp>
        <p:nvSpPr>
          <p:cNvPr id="1696" name=""/>
          <p:cNvSpPr txBox="1"/>
          <p:nvPr/>
        </p:nvSpPr>
        <p:spPr>
          <a:xfrm>
            <a:off x="0" y="928800"/>
            <a:ext cx="9144000" cy="59292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Si crede anche che Nabucodonosor abbia fatto costruire i Giardini pensili di Babilonia (una delle sette meraviglie del mondo antico) che si dice egli avesse costruito per la sua moglie malataAmyiti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Con lui il secondo impero babilonese raggiunge la    maggior potenza e grandezza, estendendosi dall'Egitto all'Elam, e viene ricostruita Babilonia che diviene la città più splendida d'oriente. A lui è anche attribuito il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rifacimento del tempio di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Marduk e la costruzione del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colossale ziqqurat di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Babilonia.</a:t>
            </a:r>
            <a:endParaRPr b="0" lang="en-US" sz="2600" spc="-1" strike="noStrike">
              <a:solidFill>
                <a:srgbClr val="000000"/>
              </a:solidFill>
              <a:latin typeface="Arial"/>
            </a:endParaRPr>
          </a:p>
        </p:txBody>
      </p:sp>
      <p:pic>
        <p:nvPicPr>
          <p:cNvPr id="1697" name="Rettangolo 3" descr=""/>
          <p:cNvPicPr/>
          <p:nvPr/>
        </p:nvPicPr>
        <p:blipFill>
          <a:blip r:embed="rId1"/>
          <a:stretch/>
        </p:blipFill>
        <p:spPr>
          <a:xfrm>
            <a:off x="2992320" y="-182520"/>
            <a:ext cx="2586240" cy="1109520"/>
          </a:xfrm>
          <a:prstGeom prst="rect">
            <a:avLst/>
          </a:prstGeom>
          <a:ln w="0">
            <a:noFill/>
          </a:ln>
        </p:spPr>
      </p:pic>
      <p:pic>
        <p:nvPicPr>
          <p:cNvPr id="1698" name="Picture 2" descr=""/>
          <p:cNvPicPr/>
          <p:nvPr/>
        </p:nvPicPr>
        <p:blipFill>
          <a:blip r:embed="rId2"/>
          <a:stretch/>
        </p:blipFill>
        <p:spPr>
          <a:xfrm>
            <a:off x="5072040" y="4500720"/>
            <a:ext cx="3429000" cy="1817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699" name=""/>
          <p:cNvSpPr txBox="1"/>
          <p:nvPr/>
        </p:nvSpPr>
        <p:spPr>
          <a:xfrm>
            <a:off x="285840" y="714240"/>
            <a:ext cx="8858160" cy="6143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Babilonesi, come i Sumeri, avevano l’ottima  sapienza idraulic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ziarono l’irrigazione, costruendo grandi canali.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ezionarono l’astronomia, l’aritmetica e la geometria dei Sumeri.</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sacerdoti babilonesi impararono a distinguere i pianeti dalle stelle fisse;scoprirono il moto dei pianeti, le fasi lunari e le cause delle eclissi; riuscirono a calcolare l’orbita della lun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te le influenze degli astri sull’uomo sono idee che ereditarono i Babilonesi dai Sumeri e che svilupparon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00" name="Rettangolo 6" descr=""/>
          <p:cNvPicPr/>
          <p:nvPr/>
        </p:nvPicPr>
        <p:blipFill>
          <a:blip r:embed="rId1"/>
          <a:stretch/>
        </p:blipFill>
        <p:spPr>
          <a:xfrm>
            <a:off x="1176480" y="-201600"/>
            <a:ext cx="7095960" cy="112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1701" name="Rettangolo 4" descr=""/>
          <p:cNvPicPr/>
          <p:nvPr/>
        </p:nvPicPr>
        <p:blipFill>
          <a:blip r:embed="rId1"/>
          <a:stretch/>
        </p:blipFill>
        <p:spPr>
          <a:xfrm>
            <a:off x="652320" y="-219240"/>
            <a:ext cx="7931160" cy="1146240"/>
          </a:xfrm>
          <a:prstGeom prst="rect">
            <a:avLst/>
          </a:prstGeom>
          <a:ln w="0">
            <a:noFill/>
          </a:ln>
        </p:spPr>
      </p:pic>
      <p:sp>
        <p:nvSpPr>
          <p:cNvPr id="1702" name="CasellaDiTesto 5"/>
          <p:cNvSpPr/>
          <p:nvPr/>
        </p:nvSpPr>
        <p:spPr>
          <a:xfrm>
            <a:off x="500040" y="1214280"/>
            <a:ext cx="73580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er quanto riguarda la religione dei Babilonesi, questi conservarono gli dei sumerici, aggiungendo però, a loro, nuovi culti, come quello per il Dio Marduk che era il protettore della Babilonia, che assunse uno dei ruoli principal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i questo Dio si diceva che avesse posto al “caos primordiale”, sconfiggendo i precedenti dei, proprio come Hammurabi aveva sconfitto i suoi nemic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pic>
        <p:nvPicPr>
          <p:cNvPr id="1703" name="Rettangolo 6" descr=""/>
          <p:cNvPicPr/>
          <p:nvPr/>
        </p:nvPicPr>
        <p:blipFill>
          <a:blip r:embed="rId1"/>
          <a:stretch/>
        </p:blipFill>
        <p:spPr>
          <a:xfrm>
            <a:off x="450720" y="176040"/>
            <a:ext cx="8259840" cy="1109880"/>
          </a:xfrm>
          <a:prstGeom prst="rect">
            <a:avLst/>
          </a:prstGeom>
          <a:ln w="0">
            <a:noFill/>
          </a:ln>
        </p:spPr>
      </p:pic>
      <p:sp>
        <p:nvSpPr>
          <p:cNvPr id="1704" name="CasellaDiTesto 7"/>
          <p:cNvSpPr/>
          <p:nvPr/>
        </p:nvSpPr>
        <p:spPr>
          <a:xfrm>
            <a:off x="714240" y="1500120"/>
            <a:ext cx="81439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Babilonesi  diedero vita  a un’importante letteratura:</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lti dei loro poemi epici , in cui scrivevano delle  antiche leggende  che avevano compiuto i Sumeri, giunsero addirittura ad influenzare le letterature successive, soprattutto quella egiz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56"/>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705" name=""/>
          <p:cNvSpPr txBox="1"/>
          <p:nvPr/>
        </p:nvSpPr>
        <p:spPr>
          <a:xfrm>
            <a:off x="457200" y="1599840"/>
            <a:ext cx="8229600" cy="4530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3000" spc="-1" strike="noStrike">
                <a:solidFill>
                  <a:srgbClr val="000000"/>
                </a:solidFill>
                <a:latin typeface="Arial"/>
              </a:rPr>
              <a:t>Queste conquiste durarono, però, solo meno di un secolo.</a:t>
            </a:r>
            <a:br>
              <a:rPr sz="3000"/>
            </a:br>
            <a:r>
              <a:rPr b="0" lang="it-IT" sz="3000" spc="-1" strike="noStrike">
                <a:solidFill>
                  <a:srgbClr val="000000"/>
                </a:solidFill>
                <a:latin typeface="Arial"/>
              </a:rPr>
              <a:t>Dopo </a:t>
            </a:r>
            <a:r>
              <a:rPr b="1" lang="it-IT" sz="3000" spc="-1" strike="noStrike">
                <a:solidFill>
                  <a:srgbClr val="000000"/>
                </a:solidFill>
                <a:latin typeface="Arial"/>
              </a:rPr>
              <a:t>Nabucodonosor II</a:t>
            </a:r>
            <a:r>
              <a:rPr b="0" lang="it-IT" sz="3000" spc="-1" strike="noStrike">
                <a:solidFill>
                  <a:srgbClr val="000000"/>
                </a:solidFill>
                <a:latin typeface="Arial"/>
              </a:rPr>
              <a:t> comincia la decadenza dell'impero babilonese, che si conclude nel 539 quando re Ciro di Persia, sottomesse la Media e la Lidia, prendendo d'assalto la Babiloni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06" name="Rettangolo 3" descr=""/>
          <p:cNvPicPr/>
          <p:nvPr/>
        </p:nvPicPr>
        <p:blipFill>
          <a:blip r:embed="rId1"/>
          <a:stretch/>
        </p:blipFill>
        <p:spPr>
          <a:xfrm>
            <a:off x="2352600" y="328680"/>
            <a:ext cx="4206960" cy="1098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680"/>
            <a:ext cx="8229600" cy="1930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STORIA DEGLI ASSIRI</a:t>
            </a:r>
            <a:endParaRPr b="1" lang="en-US" sz="3200" spc="-1" strike="noStrike">
              <a:solidFill>
                <a:srgbClr val="ffffff"/>
              </a:solidFill>
              <a:latin typeface="Arial"/>
            </a:endParaRPr>
          </a:p>
        </p:txBody>
      </p:sp>
      <p:sp>
        <p:nvSpPr>
          <p:cNvPr id="1708" name="PlaceHolder 2"/>
          <p:cNvSpPr>
            <a:spLocks noGrp="1"/>
          </p:cNvSpPr>
          <p:nvPr>
            <p:ph/>
          </p:nvPr>
        </p:nvSpPr>
        <p:spPr>
          <a:xfrm>
            <a:off x="0" y="2205000"/>
            <a:ext cx="9144000" cy="36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La storia degli assiri può essere divisa in tre parti:</a:t>
            </a:r>
            <a:endParaRPr b="0" lang="en-US" sz="2800" spc="-1" strike="noStrike">
              <a:solidFill>
                <a:srgbClr val="ffffff"/>
              </a:solidFill>
              <a:latin typeface="Arial"/>
            </a:endParaRPr>
          </a:p>
          <a:p>
            <a:pPr marL="343080" indent="-34308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ntico impero o periodo Paleoassiro (1950-1365 a.C.)</a:t>
            </a:r>
            <a:endParaRPr b="0" lang="en-US" sz="2800" spc="-1" strike="noStrike">
              <a:solidFill>
                <a:srgbClr val="ffffff"/>
              </a:solidFill>
              <a:latin typeface="Arial"/>
            </a:endParaRPr>
          </a:p>
          <a:p>
            <a:pPr marL="343080" indent="-34308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Medio impero o periodo Medioassiro (1365-932 a.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Nuovo impero o periodo Neoassiro (911-612 a.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f6969"/>
            </a:gs>
            <a:gs pos="100000">
              <a:srgbClr val="372929"/>
            </a:gs>
          </a:gsLst>
          <a:lin ang="5400000"/>
        </a:gra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70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1" name=""/>
          <p:cNvSpPr txBox="1"/>
          <p:nvPr/>
        </p:nvSpPr>
        <p:spPr>
          <a:xfrm>
            <a:off x="4715640" y="72000"/>
            <a:ext cx="4356000" cy="13395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ffaf"/>
                </a:solidFill>
                <a:latin typeface="Arial"/>
              </a:rPr>
              <a:t>     </a:t>
            </a:r>
            <a:r>
              <a:rPr b="0" lang="it-IT" sz="6000" spc="-1" strike="noStrike">
                <a:solidFill>
                  <a:srgbClr val="ffffaf"/>
                </a:solidFill>
                <a:latin typeface="Arial"/>
              </a:rPr>
              <a:t>L’Assiria</a:t>
            </a:r>
            <a:endParaRPr b="0" lang="en-US" sz="6000" spc="-1" strike="noStrike">
              <a:solidFill>
                <a:srgbClr val="e3e3ff"/>
              </a:solidFill>
              <a:latin typeface="Arial"/>
            </a:endParaRPr>
          </a:p>
        </p:txBody>
      </p:sp>
      <p:pic>
        <p:nvPicPr>
          <p:cNvPr id="1712" name="" descr=""/>
          <p:cNvPicPr/>
          <p:nvPr/>
        </p:nvPicPr>
        <p:blipFill>
          <a:blip r:embed="rId1"/>
          <a:stretch/>
        </p:blipFill>
        <p:spPr>
          <a:xfrm>
            <a:off x="456840" y="1600200"/>
            <a:ext cx="4033800" cy="4495680"/>
          </a:xfrm>
          <a:prstGeom prst="rect">
            <a:avLst/>
          </a:prstGeom>
          <a:ln w="0">
            <a:noFill/>
          </a:ln>
        </p:spPr>
      </p:pic>
      <p:sp>
        <p:nvSpPr>
          <p:cNvPr id="1713" name="PlaceHolder 1"/>
          <p:cNvSpPr>
            <a:spLocks noGrp="1"/>
          </p:cNvSpPr>
          <p:nvPr>
            <p:ph/>
          </p:nvPr>
        </p:nvSpPr>
        <p:spPr>
          <a:xfrm>
            <a:off x="4788000" y="2060640"/>
            <a:ext cx="4356000" cy="479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la fine del </a:t>
            </a:r>
            <a:r>
              <a:rPr b="0" lang="it-IT" sz="2800" spc="-1" strike="noStrike" u="sng">
                <a:solidFill>
                  <a:srgbClr val="6600cc"/>
                </a:solidFill>
                <a:uFillTx/>
                <a:latin typeface="Arial"/>
                <a:hlinkClick r:id="rId2"/>
              </a:rPr>
              <a:t>III millenn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6600cc"/>
                </a:solidFill>
                <a:uFillTx/>
                <a:latin typeface="Arial"/>
                <a:hlinkClick r:id="rId3"/>
              </a:rPr>
              <a:t>a.C.</a:t>
            </a:r>
            <a:r>
              <a:rPr b="0" lang="it-IT" sz="2800" spc="-1" strike="noStrike">
                <a:solidFill>
                  <a:srgbClr val="000000"/>
                </a:solidFill>
                <a:latin typeface="Arial"/>
              </a:rPr>
              <a:t>  fu colonizzata d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popolo che,  come l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gione stessa, prese i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me dalla città di Assu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Assir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14" name="" descr=""/>
          <p:cNvPicPr/>
          <p:nvPr/>
        </p:nvPicPr>
        <p:blipFill>
          <a:blip r:embed="rId4"/>
          <a:stretch/>
        </p:blipFill>
        <p:spPr>
          <a:xfrm>
            <a:off x="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ntico impero</a:t>
            </a:r>
            <a:endParaRPr b="0" lang="en-US" sz="4600" spc="-1" strike="noStrike">
              <a:solidFill>
                <a:srgbClr val="ffffff"/>
              </a:solidFill>
              <a:latin typeface="Arial"/>
            </a:endParaRPr>
          </a:p>
        </p:txBody>
      </p:sp>
      <p:sp>
        <p:nvSpPr>
          <p:cNvPr id="1716"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La città di Assur</a:t>
            </a:r>
            <a:endParaRPr b="0" lang="en-US" sz="3200" spc="-1" strike="noStrike">
              <a:solidFill>
                <a:srgbClr val="000000"/>
              </a:solidFill>
              <a:latin typeface="Arial"/>
            </a:endParaRPr>
          </a:p>
          <a:p>
            <a:pPr>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regno di Shamshi-Adad I </a:t>
            </a:r>
            <a:endParaRPr b="0" lang="en-US" sz="3200" spc="-1" strike="noStrike">
              <a:solidFill>
                <a:srgbClr val="000000"/>
              </a:solidFill>
              <a:latin typeface="Arial"/>
            </a:endParaRPr>
          </a:p>
          <a:p>
            <a:pPr>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ssiria ridotta a stato vassal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717"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a città stato di Assur</a:t>
            </a:r>
            <a:endParaRPr b="0" lang="en-US" sz="4400" spc="-1" strike="noStrike">
              <a:solidFill>
                <a:srgbClr val="000000"/>
              </a:solidFill>
              <a:latin typeface="Arial"/>
            </a:endParaRPr>
          </a:p>
        </p:txBody>
      </p:sp>
      <p:sp>
        <p:nvSpPr>
          <p:cNvPr id="17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città di Assur ebbe dei contatti con</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natolia quando gli assiri, sotto il controllo di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argon I, stabilirono colonie mercanti li in</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apadocia negli anni dal 1920 a.C. al 1840</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 e dal 1789 a.C. al 1740 a.C. In quest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lonie avvenivano scambi commrciali fra</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ur e le città dell’Anatoli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71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4162"/>
                </a:solidFill>
                <a:latin typeface="Times New Roman"/>
              </a:rPr>
              <a:t>&lt;footer&gt;</a:t>
            </a:r>
            <a:endParaRPr b="0" lang="en-US" sz="1200" spc="-1" strike="noStrike">
              <a:solidFill>
                <a:srgbClr val="000000"/>
              </a:solidFill>
              <a:latin typeface="Times New Roman"/>
            </a:endParaRPr>
          </a:p>
        </p:txBody>
      </p:sp>
      <p:sp>
        <p:nvSpPr>
          <p:cNvPr id="172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4162"/>
                </a:solidFill>
                <a:latin typeface="Times New Roman"/>
              </a:rPr>
              <a:t>&lt;date/time&gt;</a:t>
            </a:r>
            <a:endParaRPr b="0" lang="en-US" sz="1200" spc="-1" strike="noStrike">
              <a:solidFill>
                <a:srgbClr val="000000"/>
              </a:solidFill>
              <a:latin typeface="Times New Roman"/>
            </a:endParaRPr>
          </a:p>
        </p:txBody>
      </p:sp>
      <p:sp>
        <p:nvSpPr>
          <p:cNvPr id="1721" name="PlaceHolder 1"/>
          <p:cNvSpPr>
            <a:spLocks noGrp="1"/>
          </p:cNvSpPr>
          <p:nvPr>
            <p:ph type="title"/>
          </p:nvPr>
        </p:nvSpPr>
        <p:spPr>
          <a:xfrm>
            <a:off x="2268000" y="457200"/>
            <a:ext cx="64184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204162"/>
                </a:solidFill>
                <a:latin typeface="Arial"/>
              </a:rPr>
              <a:t>Il regno di Shamshi-Adad I</a:t>
            </a:r>
            <a:endParaRPr b="0" lang="en-US" sz="3900" spc="-1" strike="noStrike">
              <a:solidFill>
                <a:srgbClr val="ffffff"/>
              </a:solidFill>
              <a:latin typeface="Arial"/>
            </a:endParaRPr>
          </a:p>
        </p:txBody>
      </p:sp>
      <p:sp>
        <p:nvSpPr>
          <p:cNvPr id="1722" name="PlaceHolder 2"/>
          <p:cNvSpPr>
            <a:spLocks noGrp="1"/>
          </p:cNvSpPr>
          <p:nvPr>
            <p:ph/>
          </p:nvPr>
        </p:nvSpPr>
        <p:spPr>
          <a:xfrm>
            <a:off x="2340000" y="1980720"/>
            <a:ext cx="68040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4162"/>
                </a:solidFill>
                <a:latin typeface="Arial"/>
              </a:rPr>
              <a:t>La prima dinastia della città di Assu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4162"/>
                </a:solidFill>
                <a:latin typeface="Arial"/>
              </a:rPr>
              <a:t>Fu fondata da Shamshi-Adad I ne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4162"/>
                </a:solidFill>
                <a:latin typeface="Arial"/>
              </a:rPr>
              <a:t>1813. Shamshi-adad I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4162"/>
                </a:solidFill>
                <a:latin typeface="Arial"/>
              </a:rPr>
              <a:t>Consenti alle colonie di Capadocia di restare attiv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4162"/>
                </a:solidFill>
                <a:latin typeface="Arial"/>
              </a:rPr>
              <a:t>Conquistò la potente città di Mar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4162"/>
                </a:solidFill>
                <a:latin typeface="Arial"/>
              </a:rPr>
              <a:t>Dopo la sua morte il comando fu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4162"/>
                </a:solidFill>
                <a:latin typeface="Arial"/>
              </a:rPr>
              <a:t>assunto da suo fratello Yasmah-Ada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4162"/>
                </a:solidFill>
                <a:latin typeface="Arial"/>
              </a:rPr>
              <a:t>che, però, iniziò subito a disgregarsi.</a:t>
            </a:r>
            <a:endParaRPr b="0" lang="en-US" sz="2800" spc="-1" strike="noStrike">
              <a:solidFill>
                <a:srgbClr val="ffffff"/>
              </a:solidFill>
              <a:latin typeface="Arial"/>
            </a:endParaRPr>
          </a:p>
        </p:txBody>
      </p:sp>
      <p:pic>
        <p:nvPicPr>
          <p:cNvPr id="1723" name="" descr=""/>
          <p:cNvPicPr/>
          <p:nvPr/>
        </p:nvPicPr>
        <p:blipFill>
          <a:blip r:embed="rId1"/>
          <a:stretch/>
        </p:blipFill>
        <p:spPr>
          <a:xfrm>
            <a:off x="0" y="1773360"/>
            <a:ext cx="2268360" cy="446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00ff"/>
            </a:gs>
          </a:gsLst>
          <a:path path="rect">
            <a:fillToRect l="50000" t="50000" r="50000" b="50000"/>
          </a:path>
        </a:gra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808080"/>
                </a:solidFill>
                <a:latin typeface="Arial"/>
              </a:rPr>
              <a:t>L’Assiria ridotta a stato vassallo</a:t>
            </a:r>
            <a:endParaRPr b="0" lang="en-US" sz="4400" spc="-1" strike="noStrike">
              <a:solidFill>
                <a:srgbClr val="000000"/>
              </a:solidFill>
              <a:latin typeface="Arial"/>
            </a:endParaRPr>
          </a:p>
        </p:txBody>
      </p:sp>
      <p:sp>
        <p:nvSpPr>
          <p:cNvPr id="1725" name="PlaceHolder 2"/>
          <p:cNvSpPr>
            <a:spLocks noGrp="1"/>
          </p:cNvSpPr>
          <p:nvPr>
            <p:ph/>
          </p:nvPr>
        </p:nvSpPr>
        <p:spPr>
          <a:xfrm>
            <a:off x="617400" y="1828800"/>
            <a:ext cx="7917120" cy="413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opo la morte di Shamshi-Adad Assu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u conquistata da Hammurrabi d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Babilonia. Dopo la conquista 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tività mercantili cesserono e per gl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ri seguì un lungo periodo d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cadenza che durò fino al XIV secolo a.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6"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27"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8"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dio Impero:</a:t>
            </a:r>
            <a:endParaRPr b="0" lang="en-US" sz="4400" spc="-1" strike="noStrike">
              <a:solidFill>
                <a:srgbClr val="b7e7ff"/>
              </a:solidFill>
              <a:latin typeface="Arial"/>
            </a:endParaRPr>
          </a:p>
        </p:txBody>
      </p:sp>
      <p:sp>
        <p:nvSpPr>
          <p:cNvPr id="1729" name="PlaceHolder 2"/>
          <p:cNvSpPr>
            <a:spLocks noGrp="1"/>
          </p:cNvSpPr>
          <p:nvPr>
            <p:ph type="subTitle"/>
          </p:nvPr>
        </p:nvSpPr>
        <p:spPr>
          <a:xfrm>
            <a:off x="0" y="3886200"/>
            <a:ext cx="9144000" cy="1752480"/>
          </a:xfrm>
          <a:prstGeom prst="rect">
            <a:avLst/>
          </a:prstGeom>
          <a:solidFill>
            <a:srgbClr val="ff66ff"/>
          </a:solidFill>
          <a:ln w="0">
            <a:noFill/>
          </a:ln>
        </p:spPr>
        <p:txBody>
          <a:bodyPr lIns="90000" rIns="90000" tIns="46800" bIns="46800" anchor="t">
            <a:noAutofit/>
          </a:bodyPr>
          <a:p>
            <a:pPr>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50bb7"/>
                </a:solidFill>
                <a:latin typeface="Arial"/>
              </a:rPr>
              <a:t>Espansione assira;</a:t>
            </a:r>
            <a:endParaRPr b="0" lang="en-US" sz="3200" spc="-1" strike="noStrike">
              <a:solidFill>
                <a:srgbClr val="ffffff"/>
              </a:solidFill>
              <a:latin typeface="Arial"/>
            </a:endParaRPr>
          </a:p>
          <a:p>
            <a:pPr>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50bb7"/>
                </a:solidFill>
                <a:latin typeface="Arial"/>
              </a:rPr>
              <a:t>Tiglat-Pileser I e la creazione del primo impero assir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Espansione assira</a:t>
            </a:r>
            <a:endParaRPr b="1" lang="en-US" sz="4400" spc="-1" strike="noStrike">
              <a:solidFill>
                <a:srgbClr val="000000"/>
              </a:solidFill>
              <a:latin typeface="Garamond"/>
            </a:endParaRPr>
          </a:p>
        </p:txBody>
      </p:sp>
      <p:sp>
        <p:nvSpPr>
          <p:cNvPr id="1731" name="PlaceHolder 2"/>
          <p:cNvSpPr>
            <a:spLocks noGrp="1"/>
          </p:cNvSpPr>
          <p:nvPr>
            <p:ph/>
          </p:nvPr>
        </p:nvSpPr>
        <p:spPr>
          <a:xfrm>
            <a:off x="0" y="1267920"/>
            <a:ext cx="9144000" cy="5589720"/>
          </a:xfrm>
          <a:prstGeom prst="rect">
            <a:avLst/>
          </a:prstGeom>
          <a:solidFill>
            <a:srgbClr val="f1845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Nel XV sec a.C. Saushatatar re del regno dei Mitanni </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saccheggiò l’Assur e rese l’Assiria uno stato vasallo.</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L’Assiria continuò a versarne i tributi fino a quando il </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regno dei Mitanni nn fu vinto dagli Ittiti così si creò una</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specie di impero assiro.</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Dopo varie successioni di re assiri, l’impero assiro si </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espanse e la capitale Assur doveva anche essere sostituita </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ma l’ultimo re fu assassinato, i babilonesi attaccarono </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l’Assiria e per gli assiri iniziò un altro periodo di</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decadenza.</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50000">
              <a:srgbClr val="ff33cc"/>
            </a:gs>
            <a:gs pos="100000">
              <a:srgbClr val="00cc00"/>
            </a:gs>
          </a:gsLst>
          <a:lin ang="5400000"/>
        </a:gra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b7"/>
                </a:solidFill>
                <a:latin typeface="Arial Black"/>
              </a:rPr>
              <a:t>Tiglat-Pileser I e la creazione del primo impero assiro </a:t>
            </a:r>
            <a:endParaRPr b="1" lang="en-US" sz="4000" spc="-1" strike="noStrike">
              <a:solidFill>
                <a:srgbClr val="ffffb7"/>
              </a:solidFill>
              <a:latin typeface="Arial Black"/>
            </a:endParaRPr>
          </a:p>
        </p:txBody>
      </p:sp>
      <p:sp>
        <p:nvSpPr>
          <p:cNvPr id="1733" name="PlaceHolder 2"/>
          <p:cNvSpPr>
            <a:spLocks noGrp="1"/>
          </p:cNvSpPr>
          <p:nvPr>
            <p:ph/>
          </p:nvPr>
        </p:nvSpPr>
        <p:spPr>
          <a:xfrm>
            <a:off x="0" y="1915920"/>
            <a:ext cx="9144000" cy="4941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80808"/>
                </a:solidFill>
                <a:latin typeface="Arial"/>
              </a:rPr>
              <a:t>Dopo la caduta dell’impero Ittita Babilonia 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80808"/>
                </a:solidFill>
                <a:latin typeface="Arial"/>
              </a:rPr>
              <a:t>Assiria iniziarono a contendersi le regioni degl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80808"/>
                </a:solidFill>
                <a:latin typeface="Arial"/>
              </a:rPr>
              <a:t>Amorriti. La prima battaglia si disputò 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80808"/>
                </a:solidFill>
                <a:latin typeface="Arial"/>
              </a:rPr>
              <a:t>Babilonia dove gli assiri ebbero la megl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99ff66"/>
                </a:solidFill>
                <a:uFillTx/>
                <a:latin typeface="Arial"/>
                <a:hlinkClick r:id="rId1"/>
              </a:rPr>
              <a:t>Tiglat-Pileser</a:t>
            </a:r>
            <a:r>
              <a:rPr b="0" lang="it-IT" sz="2800" spc="-1" strike="noStrike" u="sng">
                <a:solidFill>
                  <a:srgbClr val="99ff66"/>
                </a:solidFill>
                <a:uFillTx/>
                <a:latin typeface="Arial"/>
                <a:hlinkClick r:id="rId2"/>
              </a:rPr>
              <a:t> I</a:t>
            </a:r>
            <a:r>
              <a:rPr b="1" lang="it-IT" sz="2800" spc="-1" strike="noStrike">
                <a:solidFill>
                  <a:srgbClr val="080808"/>
                </a:solidFill>
                <a:latin typeface="Arial"/>
              </a:rPr>
              <a:t> è considerato il primo ver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80808"/>
                </a:solidFill>
                <a:latin typeface="Arial"/>
              </a:rPr>
              <a:t>fondatore dell’impero assiro perché attraversò</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80808"/>
                </a:solidFill>
                <a:latin typeface="Arial"/>
              </a:rPr>
              <a:t>l’Eufrate sconfisse i Mushki. Avanzò verso i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80808"/>
                </a:solidFill>
                <a:latin typeface="Arial"/>
              </a:rPr>
              <a:t>Mediterraneo e marciò 2 volte su Babilon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00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46836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Sfruttando il momento di crisi dell’impero Tiglatpieser 3°(745-727 A.C.) ne prese il controllo e diede inizio a delle riforme che migliorarono la vita di tutto l’impero.</a:t>
            </a:r>
            <a:endParaRPr b="0" lang="en-US" sz="3200" spc="-1" strike="noStrike">
              <a:solidFill>
                <a:srgbClr val="000000"/>
              </a:solidFill>
              <a:latin typeface="Arial"/>
            </a:endParaRPr>
          </a:p>
        </p:txBody>
      </p:sp>
      <p:sp>
        <p:nvSpPr>
          <p:cNvPr id="1735" name="PlaceHolder 2"/>
          <p:cNvSpPr>
            <a:spLocks noGrp="1"/>
          </p:cNvSpPr>
          <p:nvPr>
            <p:ph type="subTitle"/>
          </p:nvPr>
        </p:nvSpPr>
        <p:spPr>
          <a:xfrm>
            <a:off x="539640" y="2997000"/>
            <a:ext cx="7777440" cy="316836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L’impero divenne organizzato sotto una complessa burocrazia con il re a capo a cui tutti dovevano pagare tributi, anche militarmente. Tiglapieser voleva conquistare tutti il mondo civilizzato e tutti questi cambiamenti danno il vai al “Secondo Impero Assiro”.</a:t>
            </a:r>
            <a:endParaRPr b="0" lang="en-US" sz="2700" spc="-1" strike="noStrike">
              <a:solidFill>
                <a:srgbClr val="000000"/>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1734"/>
                                        </p:tgtEl>
                                        <p:attrNameLst>
                                          <p:attrName>style.visibility</p:attrName>
                                        </p:attrNameLst>
                                      </p:cBhvr>
                                      <p:to>
                                        <p:strVal val="visible"/>
                                      </p:to>
                                    </p:set>
                                    <p:animEffect filter="fade" transition="in">
                                      <p:cBhvr additive="repl">
                                        <p:cTn id="7" dur="400"/>
                                        <p:tgtEl>
                                          <p:spTgt spid="1734"/>
                                        </p:tgtEl>
                                      </p:cBhvr>
                                    </p:animEffect>
                                    <p:anim calcmode="lin" valueType="num">
                                      <p:cBhvr additive="repl">
                                        <p:cTn id="8" dur="400" fill="hold"/>
                                        <p:tgtEl>
                                          <p:spTgt spid="1734"/>
                                        </p:tgtEl>
                                        <p:attrNameLst>
                                          <p:attrName>r</p:attrName>
                                        </p:attrNameLst>
                                      </p:cBhvr>
                                      <p:tavLst>
                                        <p:tav tm="0">
                                          <p:val>
                                            <p:strVal val="-90"/>
                                          </p:val>
                                        </p:tav>
                                        <p:tav tm="100000">
                                          <p:val>
                                            <p:strVal val="0"/>
                                          </p:val>
                                        </p:tav>
                                      </p:tavLst>
                                    </p:anim>
                                    <p:anim calcmode="lin" valueType="num">
                                      <p:cBhvr additive="repl">
                                        <p:cTn id="9" dur="400" fill="hold"/>
                                        <p:tgtEl>
                                          <p:spTgt spid="1734"/>
                                        </p:tgtEl>
                                        <p:attrNameLst>
                                          <p:attrName>ppt_x</p:attrName>
                                        </p:attrNameLst>
                                      </p:cBhvr>
                                      <p:tavLst>
                                        <p:tav tm="0">
                                          <p:val>
                                            <p:strVal val="#ppt_x+0.4"/>
                                          </p:val>
                                        </p:tav>
                                        <p:tav tm="100000">
                                          <p:val>
                                            <p:strVal val="#ppt_x-0.05"/>
                                          </p:val>
                                        </p:tav>
                                      </p:tavLst>
                                    </p:anim>
                                    <p:anim calcmode="lin" valueType="num">
                                      <p:cBhvr additive="repl">
                                        <p:cTn id="10" dur="400" fill="hold"/>
                                        <p:tgtEl>
                                          <p:spTgt spid="1734"/>
                                        </p:tgtEl>
                                        <p:attrNameLst>
                                          <p:attrName>ppt_y</p:attrName>
                                        </p:attrNameLst>
                                      </p:cBhvr>
                                      <p:tavLst>
                                        <p:tav tm="0">
                                          <p:val>
                                            <p:strVal val="#ppt_y-0.4"/>
                                          </p:val>
                                        </p:tav>
                                        <p:tav tm="100000">
                                          <p:val>
                                            <p:strVal val="#ppt_y+0.1"/>
                                          </p:val>
                                        </p:tav>
                                      </p:tavLst>
                                    </p:anim>
                                    <p:anim calcmode="lin" valueType="num">
                                      <p:cBhvr additive="repl">
                                        <p:cTn id="11" dur="100" fill="hold">
                                          <p:stCondLst>
                                            <p:cond delay="400"/>
                                          </p:stCondLst>
                                        </p:cTn>
                                        <p:tgtEl>
                                          <p:spTgt spid="1734"/>
                                        </p:tgtEl>
                                        <p:attrNameLst>
                                          <p:attrName>ppt_x</p:attrName>
                                        </p:attrNameLst>
                                      </p:cBhvr>
                                      <p:tavLst>
                                        <p:tav tm="0">
                                          <p:val>
                                            <p:strVal val="#ppt_x-0.05"/>
                                          </p:val>
                                        </p:tav>
                                        <p:tav tm="100000">
                                          <p:val>
                                            <p:strVal val="#ppt_x"/>
                                          </p:val>
                                        </p:tav>
                                      </p:tavLst>
                                    </p:anim>
                                    <p:anim calcmode="lin" valueType="num">
                                      <p:cBhvr additive="repl">
                                        <p:cTn id="12" dur="100" fill="hold">
                                          <p:stCondLst>
                                            <p:cond delay="400"/>
                                          </p:stCondLst>
                                        </p:cTn>
                                        <p:tgtEl>
                                          <p:spTgt spid="1734"/>
                                        </p:tgtEl>
                                        <p:attrNameLst>
                                          <p:attrName>ppt_y</p:attrName>
                                        </p:attrNameLst>
                                      </p:cBhvr>
                                      <p:tavLst>
                                        <p:tav tm="0">
                                          <p:val>
                                            <p:strVal val="#ppt_y+0.1"/>
                                          </p:val>
                                        </p:tav>
                                        <p:tav tm="100000">
                                          <p:val>
                                            <p:strVal val="#ppt_y"/>
                                          </p:val>
                                        </p:tav>
                                      </p:tavLst>
                                    </p:anim>
                                  </p:childTnLst>
                                </p:cTn>
                              </p:par>
                            </p:childTnLst>
                          </p:cTn>
                        </p:par>
                        <p:par>
                          <p:cTn id="13" fill="hold">
                            <p:stCondLst>
                              <p:cond delay="500"/>
                            </p:stCondLst>
                            <p:childTnLst>
                              <p:par>
                                <p:cTn id="14" nodeType="afterEffect" fill="hold" presetClass="entr" presetID="58">
                                  <p:stCondLst>
                                    <p:cond delay="0"/>
                                  </p:stCondLst>
                                  <p:childTnLst>
                                    <p:set>
                                      <p:cBhvr>
                                        <p:cTn id="15" dur="1" fill="hold">
                                          <p:stCondLst>
                                            <p:cond delay="0"/>
                                          </p:stCondLst>
                                        </p:cTn>
                                        <p:tgtEl>
                                          <p:spTgt spid="1735">
                                            <p:txEl>
                                              <p:pRg st="0" end="0"/>
                                            </p:txEl>
                                          </p:spTgt>
                                        </p:tgtEl>
                                        <p:attrNameLst>
                                          <p:attrName>style.visibility</p:attrName>
                                        </p:attrNameLst>
                                      </p:cBhvr>
                                      <p:to>
                                        <p:strVal val="visible"/>
                                      </p:to>
                                    </p:set>
                                    <p:anim calcmode="lin" valueType="num">
                                      <p:cBhvr additive="repl">
                                        <p:cTn id="16" dur="500" fill="hold"/>
                                        <p:tgtEl>
                                          <p:spTgt spid="1735">
                                            <p:txEl>
                                              <p:pRg st="0" end="0"/>
                                            </p:txEl>
                                          </p:spTgt>
                                        </p:tgtEl>
                                        <p:attrNameLst>
                                          <p:attrName>ppt_w</p:attrName>
                                        </p:attrNameLst>
                                      </p:cBhvr>
                                      <p:tavLst>
                                        <p:tav tm="0">
                                          <p:val>
                                            <p:strVal val="#ppt_w*2.5"/>
                                          </p:val>
                                        </p:tav>
                                        <p:tav tm="100000">
                                          <p:val>
                                            <p:strVal val="#ppt_w"/>
                                          </p:val>
                                        </p:tav>
                                      </p:tavLst>
                                    </p:anim>
                                    <p:anim calcmode="lin" valueType="num">
                                      <p:cBhvr additive="repl">
                                        <p:cTn id="17" dur="500" fill="hold"/>
                                        <p:tgtEl>
                                          <p:spTgt spid="1735">
                                            <p:txEl>
                                              <p:pRg st="0" end="0"/>
                                            </p:txEl>
                                          </p:spTgt>
                                        </p:tgtEl>
                                        <p:attrNameLst>
                                          <p:attrName>ppt_h</p:attrName>
                                        </p:attrNameLst>
                                      </p:cBhvr>
                                      <p:tavLst>
                                        <p:tav tm="0">
                                          <p:val>
                                            <p:strVal val="#ppt_h*0.01"/>
                                          </p:val>
                                        </p:tav>
                                        <p:tav tm="100000">
                                          <p:val>
                                            <p:strVal val="#ppt_h"/>
                                          </p:val>
                                        </p:tav>
                                      </p:tavLst>
                                    </p:anim>
                                    <p:anim calcmode="lin" valueType="num">
                                      <p:cBhvr additive="repl">
                                        <p:cTn id="18" dur="500" fill="hold"/>
                                        <p:tgtEl>
                                          <p:spTgt spid="1735">
                                            <p:txEl>
                                              <p:pRg st="0" end="0"/>
                                            </p:txEl>
                                          </p:spTgt>
                                        </p:tgtEl>
                                        <p:attrNameLst>
                                          <p:attrName>ppt_x</p:attrName>
                                        </p:attrNameLst>
                                      </p:cBhvr>
                                      <p:tavLst>
                                        <p:tav tm="0">
                                          <p:val>
                                            <p:strVal val="#ppt_x"/>
                                          </p:val>
                                        </p:tav>
                                        <p:tav tm="100000">
                                          <p:val>
                                            <p:strVal val="#ppt_x"/>
                                          </p:val>
                                        </p:tav>
                                      </p:tavLst>
                                    </p:anim>
                                    <p:anim calcmode="lin" valueType="num">
                                      <p:cBhvr additive="repl">
                                        <p:cTn id="19" dur="500" fill="hold"/>
                                        <p:tgtEl>
                                          <p:spTgt spid="1735">
                                            <p:txEl>
                                              <p:pRg st="0" end="0"/>
                                            </p:txEl>
                                          </p:spTgt>
                                        </p:tgtEl>
                                        <p:attrNameLst>
                                          <p:attrName>ppt_y</p:attrName>
                                        </p:attrNameLst>
                                      </p:cBhvr>
                                      <p:tavLst>
                                        <p:tav tm="0">
                                          <p:val>
                                            <p:strVal val="#ppt_h+1"/>
                                          </p:val>
                                        </p:tav>
                                        <p:tav tm="100000">
                                          <p:val>
                                            <p:strVal val="#ppt_y"/>
                                          </p:val>
                                        </p:tav>
                                      </p:tavLst>
                                    </p:anim>
                                    <p:animEffect filter="fade" transition="in">
                                      <p:cBhvr additive="repl">
                                        <p:cTn id="20" dur="500"/>
                                        <p:tgtEl>
                                          <p:spTgt spid="17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4ae"/>
            </a:gs>
            <a:gs pos="100000">
              <a:srgbClr val="fae3b7"/>
            </a:gs>
          </a:gsLst>
          <a:lin ang="5400000"/>
        </a:gra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179280" y="-360"/>
            <a:ext cx="896472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0fa1"/>
                </a:solidFill>
                <a:latin typeface="Arial"/>
              </a:rPr>
              <a:t>Tiglapieser 3° conquistò la Filistea e invase Israele e sotto accordo con Acaz, re di Giuda, marciò contro Damasco, conquistandola.</a:t>
            </a:r>
            <a:endParaRPr b="0" lang="en-US" sz="2800" spc="-1" strike="noStrike">
              <a:solidFill>
                <a:srgbClr val="000000"/>
              </a:solidFill>
              <a:latin typeface="Arial"/>
            </a:endParaRPr>
          </a:p>
        </p:txBody>
      </p:sp>
      <p:sp>
        <p:nvSpPr>
          <p:cNvPr id="1737" name="PlaceHolder 2"/>
          <p:cNvSpPr>
            <a:spLocks noGrp="1"/>
          </p:cNvSpPr>
          <p:nvPr>
            <p:ph/>
          </p:nvPr>
        </p:nvSpPr>
        <p:spPr>
          <a:xfrm>
            <a:off x="0" y="1600200"/>
            <a:ext cx="28432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po in piet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 Tiglatpieser 3°</a:t>
            </a:r>
            <a:endParaRPr b="0" lang="en-US" sz="2800" spc="-1" strike="noStrike">
              <a:solidFill>
                <a:srgbClr val="000000"/>
              </a:solidFill>
              <a:latin typeface="Arial"/>
            </a:endParaRPr>
          </a:p>
        </p:txBody>
      </p:sp>
      <p:sp>
        <p:nvSpPr>
          <p:cNvPr id="1738" name="PlaceHolder 3"/>
          <p:cNvSpPr>
            <a:spLocks noGrp="1"/>
          </p:cNvSpPr>
          <p:nvPr>
            <p:ph/>
          </p:nvPr>
        </p:nvSpPr>
        <p:spPr>
          <a:xfrm>
            <a:off x="2916000" y="1267920"/>
            <a:ext cx="6048360" cy="558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Il suo successore, Salmanassar 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entrò in guerra con Israele ch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veva smesso di pagare i tributi 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i era alleato con l’Egit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almanassar 5° invase Samar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apitale d’Israele) e dopo 3 anni l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nquistò. Salmanassar impo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una riforma fiscale che portò u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alcontento popolare e nel 72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C. fu deposto da Sargon 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mandante il capo dell’eserci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39" name="" descr=""/>
          <p:cNvPicPr/>
          <p:nvPr/>
        </p:nvPicPr>
        <p:blipFill>
          <a:blip r:embed="rId1"/>
          <a:stretch/>
        </p:blipFill>
        <p:spPr>
          <a:xfrm>
            <a:off x="0" y="2637000"/>
            <a:ext cx="2927520" cy="422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661" name=""/>
          <p:cNvSpPr txBox="1"/>
          <p:nvPr/>
        </p:nvSpPr>
        <p:spPr>
          <a:xfrm>
            <a:off x="456840" y="624348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RIMO IMPERO BABILONESE</a:t>
            </a:r>
            <a:endParaRPr b="0" lang="en-US" sz="4400" spc="-1" strike="noStrike">
              <a:solidFill>
                <a:srgbClr val="ffffcc"/>
              </a:solidFill>
              <a:latin typeface="Arial"/>
            </a:endParaRPr>
          </a:p>
        </p:txBody>
      </p:sp>
      <p:sp>
        <p:nvSpPr>
          <p:cNvPr id="16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fd37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Fu nel 1700 a.c. che l‘impero babilonese raggiunse il massimo del suo splendore con il re Hammurabi. Questi espanse enormemente il suo dominio su tutta la bassa Mesopotamia e fece di Babilonia il centro di una rete di alleanze con tutte le città più importanti della regione. l'innovazione più importante dell'epoca fu il grande codice di leggi, il Codice di Hammurabi, il quale ritrovamento, oltre a chiarire i vari aspetti della politica e della giustizia babilonese, ha anche permesso di ricostruire la gerarchia sociale dell‘impero.</a:t>
            </a:r>
            <a:endParaRPr b="0" lang="en-US" sz="28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Bassorilievo di Sargon 2° con un  dignitario a palazzo.</a:t>
            </a:r>
            <a:endParaRPr b="0" lang="en-US" sz="4000" spc="-1" strike="noStrike">
              <a:solidFill>
                <a:srgbClr val="000000"/>
              </a:solidFill>
              <a:latin typeface="Arial"/>
            </a:endParaRPr>
          </a:p>
        </p:txBody>
      </p:sp>
      <p:pic>
        <p:nvPicPr>
          <p:cNvPr id="1741" name="" descr=""/>
          <p:cNvPicPr/>
          <p:nvPr/>
        </p:nvPicPr>
        <p:blipFill>
          <a:blip r:embed="rId1"/>
          <a:stretch/>
        </p:blipFill>
        <p:spPr>
          <a:xfrm>
            <a:off x="2916360" y="1700280"/>
            <a:ext cx="3528720" cy="417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lin ang="10800000"/>
        </a:gra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000000"/>
                </a:solidFill>
                <a:latin typeface="Arial"/>
              </a:rPr>
              <a:t>Sargon 2° invase e conquistò il regno d’Israele e invase la Giudea impadronendosi di Gerusalemme.</a:t>
            </a:r>
            <a:endParaRPr b="0" lang="en-US" sz="3300" spc="-1" strike="noStrike">
              <a:solidFill>
                <a:srgbClr val="000000"/>
              </a:solidFill>
              <a:latin typeface="Arial"/>
            </a:endParaRPr>
          </a:p>
        </p:txBody>
      </p:sp>
      <p:sp>
        <p:nvSpPr>
          <p:cNvPr id="1743"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Nel 721 A.C. Babilonia si ribellò e Sargon 2° , non potendo fare niente, rivole il suo interesse alla Siria. Nel 710 A.C. riconquistò Babilon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Sargon fece costruire una nuova capitale a est di Ninive, Dur Sharruk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Nel 701 A.C. Sargon fu ucciso in una battaglia contro i Cimmeri nel regno neo-hittita di Tab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55">
                                  <p:stCondLst>
                                    <p:cond delay="0"/>
                                  </p:stCondLst>
                                  <p:childTnLst>
                                    <p:set>
                                      <p:cBhvr>
                                        <p:cTn id="26" dur="1" fill="hold">
                                          <p:stCondLst>
                                            <p:cond delay="0"/>
                                          </p:stCondLst>
                                        </p:cTn>
                                        <p:tgtEl>
                                          <p:spTgt spid="1742"/>
                                        </p:tgtEl>
                                        <p:attrNameLst>
                                          <p:attrName>style.visibility</p:attrName>
                                        </p:attrNameLst>
                                      </p:cBhvr>
                                      <p:to>
                                        <p:strVal val="visible"/>
                                      </p:to>
                                    </p:set>
                                    <p:anim calcmode="lin" valueType="num">
                                      <p:cBhvr additive="repl">
                                        <p:cTn id="27" dur="500" fill="hold"/>
                                        <p:tgtEl>
                                          <p:spTgt spid="1742"/>
                                        </p:tgtEl>
                                        <p:attrNameLst>
                                          <p:attrName>ppt_w</p:attrName>
                                        </p:attrNameLst>
                                      </p:cBhvr>
                                      <p:tavLst>
                                        <p:tav tm="0">
                                          <p:val>
                                            <p:strVal val="#ppt_w*0.70"/>
                                          </p:val>
                                        </p:tav>
                                        <p:tav tm="100000">
                                          <p:val>
                                            <p:strVal val="#ppt_w"/>
                                          </p:val>
                                        </p:tav>
                                      </p:tavLst>
                                    </p:anim>
                                    <p:anim calcmode="lin" valueType="num">
                                      <p:cBhvr additive="repl">
                                        <p:cTn id="28" dur="500" fill="hold"/>
                                        <p:tgtEl>
                                          <p:spTgt spid="1742"/>
                                        </p:tgtEl>
                                        <p:attrNameLst>
                                          <p:attrName>ppt_h</p:attrName>
                                        </p:attrNameLst>
                                      </p:cBhvr>
                                      <p:tavLst>
                                        <p:tav tm="0">
                                          <p:val>
                                            <p:strVal val="#ppt_h"/>
                                          </p:val>
                                        </p:tav>
                                        <p:tav tm="100000">
                                          <p:val>
                                            <p:strVal val="#ppt_h"/>
                                          </p:val>
                                        </p:tav>
                                      </p:tavLst>
                                    </p:anim>
                                    <p:animEffect filter="fade" transition="in">
                                      <p:cBhvr additive="repl">
                                        <p:cTn id="29" dur="500"/>
                                        <p:tgtEl>
                                          <p:spTgt spid="1742"/>
                                        </p:tgtEl>
                                      </p:cBhvr>
                                    </p:animEffect>
                                  </p:childTnLst>
                                </p:cTn>
                              </p:par>
                            </p:childTnLst>
                          </p:cTn>
                        </p:par>
                        <p:par>
                          <p:cTn id="30" fill="hold">
                            <p:stCondLst>
                              <p:cond delay="500"/>
                            </p:stCondLst>
                            <p:childTnLst>
                              <p:par>
                                <p:cTn id="31" nodeType="afterEffect" fill="hold" presetClass="entr" presetID="55">
                                  <p:stCondLst>
                                    <p:cond delay="0"/>
                                  </p:stCondLst>
                                  <p:childTnLst>
                                    <p:set>
                                      <p:cBhvr>
                                        <p:cTn id="32" dur="1" fill="hold">
                                          <p:stCondLst>
                                            <p:cond delay="0"/>
                                          </p:stCondLst>
                                        </p:cTn>
                                        <p:tgtEl>
                                          <p:spTgt spid="1743">
                                            <p:txEl>
                                              <p:pRg st="0" end="0"/>
                                            </p:txEl>
                                          </p:spTgt>
                                        </p:tgtEl>
                                        <p:attrNameLst>
                                          <p:attrName>style.visibility</p:attrName>
                                        </p:attrNameLst>
                                      </p:cBhvr>
                                      <p:to>
                                        <p:strVal val="visible"/>
                                      </p:to>
                                    </p:set>
                                    <p:anim calcmode="lin" valueType="num">
                                      <p:cBhvr additive="repl">
                                        <p:cTn id="33" dur="500" fill="hold"/>
                                        <p:tgtEl>
                                          <p:spTgt spid="1743">
                                            <p:txEl>
                                              <p:pRg st="0" end="0"/>
                                            </p:txEl>
                                          </p:spTgt>
                                        </p:tgtEl>
                                        <p:attrNameLst>
                                          <p:attrName>ppt_w</p:attrName>
                                        </p:attrNameLst>
                                      </p:cBhvr>
                                      <p:tavLst>
                                        <p:tav tm="0">
                                          <p:val>
                                            <p:strVal val="#ppt_w*0.70"/>
                                          </p:val>
                                        </p:tav>
                                        <p:tav tm="100000">
                                          <p:val>
                                            <p:strVal val="#ppt_w"/>
                                          </p:val>
                                        </p:tav>
                                      </p:tavLst>
                                    </p:anim>
                                    <p:anim calcmode="lin" valueType="num">
                                      <p:cBhvr additive="repl">
                                        <p:cTn id="34" dur="500" fill="hold"/>
                                        <p:tgtEl>
                                          <p:spTgt spid="1743">
                                            <p:txEl>
                                              <p:pRg st="0" end="0"/>
                                            </p:txEl>
                                          </p:spTgt>
                                        </p:tgtEl>
                                        <p:attrNameLst>
                                          <p:attrName>ppt_h</p:attrName>
                                        </p:attrNameLst>
                                      </p:cBhvr>
                                      <p:tavLst>
                                        <p:tav tm="0">
                                          <p:val>
                                            <p:strVal val="#ppt_h"/>
                                          </p:val>
                                        </p:tav>
                                        <p:tav tm="100000">
                                          <p:val>
                                            <p:strVal val="#ppt_h"/>
                                          </p:val>
                                        </p:tav>
                                      </p:tavLst>
                                    </p:anim>
                                    <p:animEffect filter="fade" transition="in">
                                      <p:cBhvr additive="repl">
                                        <p:cTn id="35" dur="500"/>
                                        <p:tgtEl>
                                          <p:spTgt spid="1743">
                                            <p:txEl>
                                              <p:pRg st="0" end="0"/>
                                            </p:txEl>
                                          </p:spTgt>
                                        </p:tgtEl>
                                      </p:cBhvr>
                                    </p:animEffect>
                                  </p:childTnLst>
                                </p:cTn>
                              </p:par>
                              <p:par>
                                <p:cTn id="36" nodeType="withEffect" fill="hold" presetClass="entr" presetID="55">
                                  <p:stCondLst>
                                    <p:cond delay="300"/>
                                  </p:stCondLst>
                                  <p:childTnLst>
                                    <p:set>
                                      <p:cBhvr>
                                        <p:cTn id="37" dur="1" fill="hold">
                                          <p:stCondLst>
                                            <p:cond delay="0"/>
                                          </p:stCondLst>
                                        </p:cTn>
                                        <p:tgtEl>
                                          <p:spTgt spid="1743">
                                            <p:txEl>
                                              <p:pRg st="1" end="1"/>
                                            </p:txEl>
                                          </p:spTgt>
                                        </p:tgtEl>
                                        <p:attrNameLst>
                                          <p:attrName>style.visibility</p:attrName>
                                        </p:attrNameLst>
                                      </p:cBhvr>
                                      <p:to>
                                        <p:strVal val="visible"/>
                                      </p:to>
                                    </p:set>
                                    <p:anim calcmode="lin" valueType="num">
                                      <p:cBhvr additive="repl">
                                        <p:cTn id="38" dur="500" fill="hold"/>
                                        <p:tgtEl>
                                          <p:spTgt spid="1743">
                                            <p:txEl>
                                              <p:pRg st="1" end="1"/>
                                            </p:txEl>
                                          </p:spTgt>
                                        </p:tgtEl>
                                        <p:attrNameLst>
                                          <p:attrName>ppt_w</p:attrName>
                                        </p:attrNameLst>
                                      </p:cBhvr>
                                      <p:tavLst>
                                        <p:tav tm="0">
                                          <p:val>
                                            <p:strVal val="#ppt_w*0.70"/>
                                          </p:val>
                                        </p:tav>
                                        <p:tav tm="100000">
                                          <p:val>
                                            <p:strVal val="#ppt_w"/>
                                          </p:val>
                                        </p:tav>
                                      </p:tavLst>
                                    </p:anim>
                                    <p:anim calcmode="lin" valueType="num">
                                      <p:cBhvr additive="repl">
                                        <p:cTn id="39" dur="500" fill="hold"/>
                                        <p:tgtEl>
                                          <p:spTgt spid="1743">
                                            <p:txEl>
                                              <p:pRg st="1" end="1"/>
                                            </p:txEl>
                                          </p:spTgt>
                                        </p:tgtEl>
                                        <p:attrNameLst>
                                          <p:attrName>ppt_h</p:attrName>
                                        </p:attrNameLst>
                                      </p:cBhvr>
                                      <p:tavLst>
                                        <p:tav tm="0">
                                          <p:val>
                                            <p:strVal val="#ppt_h"/>
                                          </p:val>
                                        </p:tav>
                                        <p:tav tm="100000">
                                          <p:val>
                                            <p:strVal val="#ppt_h"/>
                                          </p:val>
                                        </p:tav>
                                      </p:tavLst>
                                    </p:anim>
                                    <p:animEffect filter="fade" transition="in">
                                      <p:cBhvr additive="repl">
                                        <p:cTn id="40" dur="500"/>
                                        <p:tgtEl>
                                          <p:spTgt spid="1743">
                                            <p:txEl>
                                              <p:pRg st="1" end="1"/>
                                            </p:txEl>
                                          </p:spTgt>
                                        </p:tgtEl>
                                      </p:cBhvr>
                                    </p:animEffect>
                                  </p:childTnLst>
                                </p:cTn>
                              </p:par>
                              <p:par>
                                <p:cTn id="41" nodeType="withEffect" fill="hold" presetClass="entr" presetID="55">
                                  <p:stCondLst>
                                    <p:cond delay="100"/>
                                  </p:stCondLst>
                                  <p:childTnLst>
                                    <p:set>
                                      <p:cBhvr>
                                        <p:cTn id="42" dur="1" fill="hold">
                                          <p:stCondLst>
                                            <p:cond delay="0"/>
                                          </p:stCondLst>
                                        </p:cTn>
                                        <p:tgtEl>
                                          <p:spTgt spid="1743">
                                            <p:txEl>
                                              <p:pRg st="2" end="2"/>
                                            </p:txEl>
                                          </p:spTgt>
                                        </p:tgtEl>
                                        <p:attrNameLst>
                                          <p:attrName>style.visibility</p:attrName>
                                        </p:attrNameLst>
                                      </p:cBhvr>
                                      <p:to>
                                        <p:strVal val="visible"/>
                                      </p:to>
                                    </p:set>
                                    <p:anim calcmode="lin" valueType="num">
                                      <p:cBhvr additive="repl">
                                        <p:cTn id="43" dur="500" fill="hold"/>
                                        <p:tgtEl>
                                          <p:spTgt spid="1743">
                                            <p:txEl>
                                              <p:pRg st="2" end="2"/>
                                            </p:txEl>
                                          </p:spTgt>
                                        </p:tgtEl>
                                        <p:attrNameLst>
                                          <p:attrName>ppt_w</p:attrName>
                                        </p:attrNameLst>
                                      </p:cBhvr>
                                      <p:tavLst>
                                        <p:tav tm="0">
                                          <p:val>
                                            <p:strVal val="#ppt_w*0.70"/>
                                          </p:val>
                                        </p:tav>
                                        <p:tav tm="100000">
                                          <p:val>
                                            <p:strVal val="#ppt_w"/>
                                          </p:val>
                                        </p:tav>
                                      </p:tavLst>
                                    </p:anim>
                                    <p:anim calcmode="lin" valueType="num">
                                      <p:cBhvr additive="repl">
                                        <p:cTn id="44" dur="500" fill="hold"/>
                                        <p:tgtEl>
                                          <p:spTgt spid="1743">
                                            <p:txEl>
                                              <p:pRg st="2" end="2"/>
                                            </p:txEl>
                                          </p:spTgt>
                                        </p:tgtEl>
                                        <p:attrNameLst>
                                          <p:attrName>ppt_h</p:attrName>
                                        </p:attrNameLst>
                                      </p:cBhvr>
                                      <p:tavLst>
                                        <p:tav tm="0">
                                          <p:val>
                                            <p:strVal val="#ppt_h"/>
                                          </p:val>
                                        </p:tav>
                                        <p:tav tm="100000">
                                          <p:val>
                                            <p:strVal val="#ppt_h"/>
                                          </p:val>
                                        </p:tav>
                                      </p:tavLst>
                                    </p:anim>
                                    <p:animEffect filter="fade" transition="in">
                                      <p:cBhvr additive="repl">
                                        <p:cTn id="45" dur="500"/>
                                        <p:tgtEl>
                                          <p:spTgt spid="17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LA SOCIETà</a:t>
            </a:r>
            <a:br>
              <a:rPr sz="4000"/>
            </a:br>
            <a:r>
              <a:rPr b="1" lang="it-IT" sz="4000" spc="-1" strike="noStrike">
                <a:solidFill>
                  <a:srgbClr val="000000"/>
                </a:solidFill>
                <a:latin typeface="Arial"/>
              </a:rPr>
              <a:t> ASSIRA</a:t>
            </a:r>
            <a:endParaRPr b="0" lang="en-US" sz="4000" spc="-1" strike="noStrike">
              <a:solidFill>
                <a:srgbClr val="000000"/>
              </a:solidFill>
              <a:latin typeface="Arial"/>
            </a:endParaRPr>
          </a:p>
        </p:txBody>
      </p:sp>
      <p:sp>
        <p:nvSpPr>
          <p:cNvPr id="1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000000"/>
                </a:solidFill>
                <a:latin typeface="Arial"/>
              </a:rPr>
              <a:t>Lo stato assiro era basato su una aristocrazia guerriera dove si reclutavano molti guerrieri e questa cosa si faceva nella maggior parte delle terre. Il resto della popolazione erano contadini e artigiano che facevano vite misere e senza diritti. Tutta la società ruotava attorno alla figura del re che esprimeva anche il potere religioso: il re era il “servo di Assu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religione assira</a:t>
            </a:r>
            <a:endParaRPr b="0" lang="en-US" sz="4400" spc="-1" strike="noStrike">
              <a:solidFill>
                <a:srgbClr val="000000"/>
              </a:solidFill>
              <a:latin typeface="Arial"/>
            </a:endParaRPr>
          </a:p>
        </p:txBody>
      </p:sp>
      <p:sp>
        <p:nvSpPr>
          <p:cNvPr id="1747" name="PlaceHolder 2"/>
          <p:cNvSpPr>
            <a:spLocks noGrp="1"/>
          </p:cNvSpPr>
          <p:nvPr>
            <p:ph/>
          </p:nvPr>
        </p:nvSpPr>
        <p:spPr>
          <a:xfrm>
            <a:off x="250920" y="1196640"/>
            <a:ext cx="8642160" cy="5661000"/>
          </a:xfrm>
          <a:prstGeom prst="rect">
            <a:avLst/>
          </a:prstGeom>
          <a:noFill/>
          <a:ln w="0">
            <a:noFill/>
          </a:ln>
        </p:spPr>
        <p:txBody>
          <a:bodyPr lIns="90000" rIns="90000" tIns="46800" bIns="46800" anchor="t">
            <a:normAutofit/>
          </a:bodyPr>
          <a:p>
            <a:pPr lvl="3" marL="16002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825"/>
              </a:spcBef>
              <a:buClr>
                <a:srgbClr val="160f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160fa1"/>
                </a:solidFill>
                <a:latin typeface="Arial"/>
              </a:rPr>
              <a:t>Il</a:t>
            </a:r>
            <a:r>
              <a:rPr b="1" lang="it-IT" sz="3300" spc="-1" strike="noStrike">
                <a:solidFill>
                  <a:srgbClr val="ffffff"/>
                </a:solidFill>
                <a:latin typeface="Arial"/>
              </a:rPr>
              <a:t> </a:t>
            </a:r>
            <a:r>
              <a:rPr b="1" lang="it-IT" sz="3300" spc="-1" strike="noStrike">
                <a:solidFill>
                  <a:srgbClr val="160fa1"/>
                </a:solidFill>
                <a:latin typeface="Arial"/>
              </a:rPr>
              <a:t>dio principale della religione assira era Assur, il dio della forza e della violenza che proteggeva l’esercito. Un altro è il dio del sole Shamash. Altri sono Ishtar, dea dell’amore e della guerra e Adad dio dei fenomeni celesti.</a:t>
            </a:r>
            <a:endParaRPr b="0" lang="en-US" sz="3300" spc="-1" strike="noStrike">
              <a:solidFill>
                <a:srgbClr val="000000"/>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8459"/>
                </a:solidFill>
                <a:latin typeface="Arial"/>
              </a:rPr>
              <a:t>Gli assiri popolo conquistatore</a:t>
            </a:r>
            <a:endParaRPr b="0" lang="en-US" sz="4000" spc="-1" strike="noStrike">
              <a:solidFill>
                <a:srgbClr val="000000"/>
              </a:solidFill>
              <a:latin typeface="Arial"/>
            </a:endParaRPr>
          </a:p>
        </p:txBody>
      </p:sp>
      <p:sp>
        <p:nvSpPr>
          <p:cNvPr id="17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8f856"/>
                </a:solidFill>
                <a:latin typeface="Arial"/>
              </a:rPr>
              <a:t>Durante questo secolo e mezzo gli assiri conquistarono molti territori e si imposero come potenza militare fino al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f8f856"/>
                </a:solidFill>
                <a:latin typeface="Arial"/>
              </a:rPr>
              <a:t>…</a:t>
            </a:r>
            <a:r>
              <a:rPr b="1" lang="it-IT" sz="3300" spc="-1" strike="noStrike">
                <a:solidFill>
                  <a:srgbClr val="f8f856"/>
                </a:solidFill>
                <a:latin typeface="Arial"/>
              </a:rPr>
              <a:t>morte dell’ultimo imperatore assiro , nel 612 A.C., dove si decreta la fine dell’impero assiro, ma…</a:t>
            </a:r>
            <a:endParaRPr b="0" lang="en-US" sz="3300" spc="-1" strike="noStrike">
              <a:solidFill>
                <a:srgbClr val="000000"/>
              </a:solidFill>
              <a:latin typeface="Arial"/>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f8f8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8f856"/>
                </a:solidFill>
                <a:latin typeface="Arial"/>
              </a:rPr>
              <a:t>… </a:t>
            </a:r>
            <a:r>
              <a:rPr b="1" lang="it-IT" sz="2900" spc="-1" strike="noStrike">
                <a:solidFill>
                  <a:srgbClr val="f8f856"/>
                </a:solidFill>
                <a:latin typeface="Arial"/>
              </a:rPr>
              <a:t>la corte assira si ritirò a Carre dove regno per poco con il supporto militare del faraone Necho 2° fino al 609 A.C. anno in cui fu sconfitto.</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975"/>
              </a:spcBef>
              <a:buClr>
                <a:srgbClr val="f8f8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u="sng">
                <a:solidFill>
                  <a:srgbClr val="f8f856"/>
                </a:solidFill>
                <a:uFillTx/>
                <a:latin typeface="Arial"/>
              </a:rPr>
              <a:t>QUI FINISCE L’IMPERO ASSIRO</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0800000"/>
        </a:gradFill>
      </p:bgPr>
    </p:bg>
    <p:spTree>
      <p:nvGrpSpPr>
        <p:cNvPr id="1" name=""/>
        <p:cNvGrpSpPr/>
        <p:nvPr/>
      </p:nvGrpSpPr>
      <p:grpSpPr>
        <a:xfrm>
          <a:off x="0" y="0"/>
          <a:ext cx="0" cy="0"/>
          <a:chOff x="0" y="0"/>
          <a:chExt cx="0" cy="0"/>
        </a:xfrm>
      </p:grpSpPr>
      <p:sp>
        <p:nvSpPr>
          <p:cNvPr id="1752"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753" name=""/>
          <p:cNvSpPr txBox="1"/>
          <p:nvPr/>
        </p:nvSpPr>
        <p:spPr>
          <a:xfrm>
            <a:off x="2268360" y="404640"/>
            <a:ext cx="4537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3d4a8"/>
                    </a:gs>
                    <a:gs pos="50000">
                      <a:srgbClr val="005cbf"/>
                    </a:gs>
                    <a:gs pos="100000">
                      <a:srgbClr val="03d4a8"/>
                    </a:gs>
                  </a:gsLst>
                  <a:lin ang="8100000"/>
                </a:gradFill>
                <a:latin typeface="Arial Black"/>
              </a:rPr>
              <a:t>Fonti consultate</a:t>
            </a:r>
            <a:endParaRPr b="0" lang="en-US" sz="1800" spc="1" strike="noStrike">
              <a:ln w="9360">
                <a:solidFill>
                  <a:srgbClr val="000000"/>
                </a:solidFill>
                <a:miter/>
              </a:ln>
              <a:gradFill rotWithShape="0">
                <a:gsLst>
                  <a:gs pos="0">
                    <a:srgbClr val="03d4a8"/>
                  </a:gs>
                  <a:gs pos="50000">
                    <a:srgbClr val="005cbf"/>
                  </a:gs>
                  <a:gs pos="100000">
                    <a:srgbClr val="03d4a8"/>
                  </a:gs>
                </a:gsLst>
                <a:lin ang="8100000"/>
              </a:gradFill>
              <a:latin typeface="Arial Black"/>
              <a:ea typeface="Arial Black"/>
            </a:endParaRPr>
          </a:p>
        </p:txBody>
      </p:sp>
      <p:sp>
        <p:nvSpPr>
          <p:cNvPr id="1754" name=""/>
          <p:cNvSpPr txBox="1"/>
          <p:nvPr/>
        </p:nvSpPr>
        <p:spPr>
          <a:xfrm>
            <a:off x="900000" y="1413000"/>
            <a:ext cx="3229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99ff"/>
                    </a:gs>
                    <a:gs pos="50000">
                      <a:srgbClr val="ff0000"/>
                    </a:gs>
                    <a:gs pos="100000">
                      <a:srgbClr val="3399ff"/>
                    </a:gs>
                  </a:gsLst>
                  <a:lin ang="13500000"/>
                </a:gradFill>
                <a:latin typeface="Arial Black"/>
              </a:rPr>
              <a:t>Enciclopedie</a:t>
            </a:r>
            <a:endParaRPr b="0" lang="en-US" sz="1800" spc="1" strike="noStrike">
              <a:ln w="9360">
                <a:solidFill>
                  <a:srgbClr val="000000"/>
                </a:solidFill>
                <a:miter/>
              </a:ln>
              <a:gradFill rotWithShape="0">
                <a:gsLst>
                  <a:gs pos="0">
                    <a:srgbClr val="3399ff"/>
                  </a:gs>
                  <a:gs pos="50000">
                    <a:srgbClr val="ff0000"/>
                  </a:gs>
                  <a:gs pos="100000">
                    <a:srgbClr val="3399ff"/>
                  </a:gs>
                </a:gsLst>
                <a:lin ang="13500000"/>
              </a:gradFill>
              <a:latin typeface="Arial Black"/>
              <a:ea typeface="Arial Black"/>
            </a:endParaRPr>
          </a:p>
        </p:txBody>
      </p:sp>
      <p:sp>
        <p:nvSpPr>
          <p:cNvPr id="1755" name=""/>
          <p:cNvSpPr txBox="1"/>
          <p:nvPr/>
        </p:nvSpPr>
        <p:spPr>
          <a:xfrm>
            <a:off x="900000" y="2421000"/>
            <a:ext cx="3467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82"/>
                    </a:gs>
                    <a:gs pos="50000">
                      <a:srgbClr val="ff8200"/>
                    </a:gs>
                    <a:gs pos="100000">
                      <a:srgbClr val="000082"/>
                    </a:gs>
                  </a:gsLst>
                  <a:lin ang="8100000"/>
                </a:gradFill>
                <a:latin typeface="Arial Black"/>
              </a:rPr>
              <a:t>Libro di storia</a:t>
            </a:r>
            <a:endParaRPr b="0" lang="en-US" sz="1800" spc="1" strike="noStrike">
              <a:ln w="9360">
                <a:solidFill>
                  <a:srgbClr val="000000"/>
                </a:solidFill>
                <a:miter/>
              </a:ln>
              <a:gradFill rotWithShape="0">
                <a:gsLst>
                  <a:gs pos="0">
                    <a:srgbClr val="000082"/>
                  </a:gs>
                  <a:gs pos="50000">
                    <a:srgbClr val="ff8200"/>
                  </a:gs>
                  <a:gs pos="100000">
                    <a:srgbClr val="000082"/>
                  </a:gs>
                </a:gsLst>
                <a:lin ang="8100000"/>
              </a:gradFill>
              <a:latin typeface="Arial Black"/>
              <a:ea typeface="Arial Black"/>
            </a:endParaRPr>
          </a:p>
        </p:txBody>
      </p:sp>
      <p:sp>
        <p:nvSpPr>
          <p:cNvPr id="1756" name=""/>
          <p:cNvSpPr txBox="1"/>
          <p:nvPr/>
        </p:nvSpPr>
        <p:spPr>
          <a:xfrm>
            <a:off x="971640" y="3645000"/>
            <a:ext cx="2962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bfa"/>
                    </a:gs>
                    <a:gs pos="100000">
                      <a:srgbClr val="5e9eff"/>
                    </a:gs>
                  </a:gsLst>
                  <a:path path="rect">
                    <a:fillToRect l="50000" t="50000" r="50000" b="50000"/>
                  </a:path>
                </a:gradFill>
                <a:latin typeface="Arial Black"/>
              </a:rPr>
              <a:t>Siti internet</a:t>
            </a:r>
            <a:endParaRPr b="0" lang="en-US" sz="1800" spc="1" strike="noStrike">
              <a:ln w="9360">
                <a:solidFill>
                  <a:srgbClr val="000000"/>
                </a:solidFill>
                <a:miter/>
              </a:ln>
              <a:gradFill rotWithShape="0">
                <a:gsLst>
                  <a:gs pos="0">
                    <a:srgbClr val="ffebfa"/>
                  </a:gs>
                  <a:gs pos="100000">
                    <a:srgbClr val="5e9eff"/>
                  </a:gs>
                </a:gsLst>
                <a:path path="rect">
                  <a:fillToRect l="50000" t="50000" r="50000" b="50000"/>
                </a:path>
              </a:gradFill>
              <a:latin typeface="Arial Black"/>
              <a:ea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1757" name="PlaceHolder 1"/>
          <p:cNvSpPr>
            <a:spLocks noGrp="1"/>
          </p:cNvSpPr>
          <p:nvPr>
            <p:ph type="subTitle"/>
          </p:nvPr>
        </p:nvSpPr>
        <p:spPr>
          <a:xfrm>
            <a:off x="-360" y="928440"/>
            <a:ext cx="8643960" cy="550044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9999"/>
                </a:solidFill>
                <a:uFillTx/>
                <a:latin typeface="Arial"/>
                <a:hlinkClick r:id="rId1"/>
              </a:rPr>
              <a:t>http://</a:t>
            </a:r>
            <a:r>
              <a:rPr b="0" lang="it-IT" sz="2800" spc="-1" strike="noStrike" u="sng">
                <a:solidFill>
                  <a:srgbClr val="009999"/>
                </a:solidFill>
                <a:uFillTx/>
                <a:latin typeface="Arial"/>
                <a:hlinkClick r:id="rId2"/>
              </a:rPr>
              <a:t>it.wikipedia.org</a:t>
            </a:r>
            <a:r>
              <a:rPr b="0" lang="it-IT" sz="2800" spc="-1" strike="noStrike" u="sng">
                <a:solidFill>
                  <a:srgbClr val="009999"/>
                </a:solidFill>
                <a:uFillTx/>
                <a:latin typeface="Arial"/>
                <a:hlinkClick r:id="rId3"/>
              </a:rPr>
              <a:t>/</a:t>
            </a:r>
            <a:r>
              <a:rPr b="0" lang="it-IT" sz="2800" spc="-1" strike="noStrike" u="sng">
                <a:solidFill>
                  <a:srgbClr val="009999"/>
                </a:solidFill>
                <a:uFillTx/>
                <a:latin typeface="Arial"/>
                <a:hlinkClick r:id="rId4"/>
              </a:rPr>
              <a:t>wiki</a:t>
            </a:r>
            <a:r>
              <a:rPr b="0" lang="it-IT" sz="2800" spc="-1" strike="noStrike" u="sng">
                <a:solidFill>
                  <a:srgbClr val="009999"/>
                </a:solidFill>
                <a:uFillTx/>
                <a:latin typeface="Arial"/>
                <a:hlinkClick r:id="rId5"/>
              </a:rPr>
              <a:t>/</a:t>
            </a:r>
            <a:r>
              <a:rPr b="0" lang="it-IT" sz="2800" spc="-1" strike="noStrike" u="sng">
                <a:solidFill>
                  <a:srgbClr val="009999"/>
                </a:solidFill>
                <a:uFillTx/>
                <a:latin typeface="Arial"/>
                <a:hlinkClick r:id="rId6"/>
              </a:rPr>
              <a:t>Assiri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9999"/>
                </a:solidFill>
                <a:uFillTx/>
                <a:latin typeface="Arial"/>
                <a:hlinkClick r:id="rId7"/>
              </a:rPr>
              <a:t>http://www.silab.it/storia/?pageurl=07-l-assiria</a:t>
            </a:r>
            <a:r>
              <a:rPr b="0" lang="it-IT" sz="2800" spc="-1" strike="noStrike" u="sng">
                <a:solidFill>
                  <a:srgbClr val="160fa1"/>
                </a:solidFill>
                <a:uFillTx/>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9999"/>
                </a:solidFill>
                <a:uFillTx/>
                <a:latin typeface="Arial"/>
                <a:hlinkClick r:id="rId8"/>
              </a:rPr>
              <a:t>http://</a:t>
            </a:r>
            <a:r>
              <a:rPr b="0" lang="it-IT" sz="2800" spc="-1" strike="noStrike" u="sng">
                <a:solidFill>
                  <a:srgbClr val="009999"/>
                </a:solidFill>
                <a:uFillTx/>
                <a:latin typeface="Arial"/>
                <a:hlinkClick r:id="rId9"/>
              </a:rPr>
              <a:t>it.wikipedia.org</a:t>
            </a:r>
            <a:r>
              <a:rPr b="0" lang="it-IT" sz="2800" spc="-1" strike="noStrike" u="sng">
                <a:solidFill>
                  <a:srgbClr val="009999"/>
                </a:solidFill>
                <a:uFillTx/>
                <a:latin typeface="Arial"/>
                <a:hlinkClick r:id="rId10"/>
              </a:rPr>
              <a:t>/</a:t>
            </a:r>
            <a:r>
              <a:rPr b="0" lang="it-IT" sz="2800" spc="-1" strike="noStrike" u="sng">
                <a:solidFill>
                  <a:srgbClr val="009999"/>
                </a:solidFill>
                <a:uFillTx/>
                <a:latin typeface="Arial"/>
                <a:hlinkClick r:id="rId11"/>
              </a:rPr>
              <a:t>wiki</a:t>
            </a:r>
            <a:r>
              <a:rPr b="0" lang="it-IT" sz="2800" spc="-1" strike="noStrike" u="sng">
                <a:solidFill>
                  <a:srgbClr val="009999"/>
                </a:solidFill>
                <a:uFillTx/>
                <a:latin typeface="Arial"/>
                <a:hlinkClick r:id="rId12"/>
              </a:rPr>
              <a:t>/Babilonesi#Secondo_impero_babilones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9999"/>
                </a:solidFill>
                <a:uFillTx/>
                <a:latin typeface="Arial"/>
                <a:hlinkClick r:id="rId13"/>
              </a:rPr>
              <a:t>http://www.franco-felicetti.it/</a:t>
            </a:r>
            <a:r>
              <a:rPr b="0" lang="it-IT" sz="2800" spc="-1" strike="noStrike" u="sng">
                <a:solidFill>
                  <a:srgbClr val="009999"/>
                </a:solidFill>
                <a:uFillTx/>
                <a:latin typeface="Arial"/>
                <a:hlinkClick r:id="rId14"/>
              </a:rPr>
              <a:t>apriDocumento.asp</a:t>
            </a:r>
            <a:r>
              <a:rPr b="0" lang="it-IT" sz="2800" spc="-1" strike="noStrike" u="sng">
                <a:solidFill>
                  <a:srgbClr val="009999"/>
                </a:solidFill>
                <a:uFillTx/>
                <a:latin typeface="Arial"/>
                <a:hlinkClick r:id="rId15"/>
              </a:rPr>
              <a:t>?nome=antica_mod8.pdf</a:t>
            </a:r>
            <a:r>
              <a:rPr b="0" lang="it-IT" sz="2800" spc="-1" strike="noStrike">
                <a:solidFill>
                  <a:srgbClr val="160fa1"/>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9999"/>
                </a:solidFill>
                <a:uFillTx/>
                <a:latin typeface="Arial"/>
                <a:hlinkClick r:id="rId16"/>
              </a:rPr>
              <a:t>http://www.lamiasardegna.it/</a:t>
            </a:r>
            <a:r>
              <a:rPr b="0" lang="it-IT" sz="2800" spc="-1" strike="noStrike" u="sng">
                <a:solidFill>
                  <a:srgbClr val="009999"/>
                </a:solidFill>
                <a:uFillTx/>
                <a:latin typeface="Arial"/>
                <a:hlinkClick r:id="rId17"/>
              </a:rPr>
              <a:t>images</a:t>
            </a:r>
            <a:r>
              <a:rPr b="0" lang="it-IT" sz="2800" spc="-1" strike="noStrike" u="sng">
                <a:solidFill>
                  <a:srgbClr val="009999"/>
                </a:solidFill>
                <a:uFillTx/>
                <a:latin typeface="Arial"/>
                <a:hlinkClick r:id="rId18"/>
              </a:rPr>
              <a:t>/924/008.gi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58" name="Rettangolo 3" descr=""/>
          <p:cNvPicPr/>
          <p:nvPr/>
        </p:nvPicPr>
        <p:blipFill>
          <a:blip r:embed="rId19"/>
          <a:stretch/>
        </p:blipFill>
        <p:spPr>
          <a:xfrm>
            <a:off x="658800" y="-176040"/>
            <a:ext cx="7819920" cy="1126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1759" name="" descr=""/>
          <p:cNvPicPr/>
          <p:nvPr/>
        </p:nvPicPr>
        <p:blipFill>
          <a:blip r:embed="rId1"/>
          <a:stretch/>
        </p:blipFill>
        <p:spPr>
          <a:xfrm>
            <a:off x="0" y="158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80808"/>
                </a:solidFill>
                <a:latin typeface="Arial"/>
              </a:rPr>
              <a:t>Confini della Babilonia ai tempi di </a:t>
            </a:r>
            <a:br>
              <a:rPr sz="4000"/>
            </a:br>
            <a:r>
              <a:rPr b="0" lang="it-IT" sz="4000" spc="-1" strike="noStrike">
                <a:solidFill>
                  <a:srgbClr val="080808"/>
                </a:solidFill>
                <a:latin typeface="Arial"/>
              </a:rPr>
              <a:t>Hammurabi</a:t>
            </a:r>
            <a:endParaRPr b="0" lang="en-US" sz="4000" spc="-1" strike="noStrike">
              <a:solidFill>
                <a:srgbClr val="ffffcc"/>
              </a:solidFill>
              <a:latin typeface="Arial"/>
            </a:endParaRPr>
          </a:p>
        </p:txBody>
      </p:sp>
      <p:sp>
        <p:nvSpPr>
          <p:cNvPr id="16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66" name="" descr=""/>
          <p:cNvPicPr/>
          <p:nvPr/>
        </p:nvPicPr>
        <p:blipFill>
          <a:blip r:embed="rId2"/>
          <a:stretch/>
        </p:blipFill>
        <p:spPr>
          <a:xfrm>
            <a:off x="395280" y="1486080"/>
            <a:ext cx="8424720" cy="482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7"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668"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Garamond"/>
              </a:rPr>
              <a:t>LA RELIGIONE</a:t>
            </a:r>
            <a:endParaRPr b="1" lang="en-US" sz="4400" spc="-1" strike="noStrike">
              <a:solidFill>
                <a:srgbClr val="000000"/>
              </a:solidFill>
              <a:latin typeface="Garamond"/>
            </a:endParaRPr>
          </a:p>
        </p:txBody>
      </p:sp>
      <p:sp>
        <p:nvSpPr>
          <p:cNvPr id="16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I babilonesi avevano una religione politeista, avente</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origini orientali. Essi furono molto abili ad impiegare</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la loro religione per fini politici, facendo diventare</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Babilonia luogo sacro di spiritualità ed origine del</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tutto. Attraverso documenti, vengono rielaborati tutti </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i testi sacri dei sumeri, modificando la realtà, per</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esaltare il mito di Babilonia, vista come "porta di</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dio". I babilonesi amavano identificarsi nei</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personaggi della loro mitologia,quali il re Uruk o</a:t>
            </a: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An,Enlil ed Enki.</a:t>
            </a:r>
            <a:endParaRPr b="0" lang="en-US" sz="28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footer&gt;</a:t>
            </a:r>
            <a:endParaRPr b="0" lang="en-US" sz="1000" spc="-1" strike="noStrike">
              <a:solidFill>
                <a:srgbClr val="000000"/>
              </a:solidFill>
              <a:latin typeface="Times New Roman"/>
            </a:endParaRPr>
          </a:p>
        </p:txBody>
      </p:sp>
      <p:sp>
        <p:nvSpPr>
          <p:cNvPr id="1672" name=""/>
          <p:cNvSpPr txBox="1"/>
          <p:nvPr/>
        </p:nvSpPr>
        <p:spPr>
          <a:xfrm>
            <a:off x="456840" y="6248520"/>
            <a:ext cx="16765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date/time&gt;</a:t>
            </a:r>
            <a:endParaRPr b="0" lang="en-US" sz="1000" spc="-1" strike="noStrike">
              <a:solidFill>
                <a:srgbClr val="000000"/>
              </a:solidFill>
              <a:latin typeface="Times New Roman"/>
            </a:endParaRPr>
          </a:p>
        </p:txBody>
      </p:sp>
      <p:sp>
        <p:nvSpPr>
          <p:cNvPr id="16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66699"/>
                </a:solidFill>
                <a:latin typeface="Times New Roman"/>
              </a:rPr>
              <a:t>Il mito di Uruk e il mito degli dei e degli uomini</a:t>
            </a:r>
            <a:endParaRPr b="0" lang="en-US" sz="3600" spc="-1" strike="noStrike">
              <a:solidFill>
                <a:srgbClr val="420000"/>
              </a:solidFill>
              <a:latin typeface="Times New Roman"/>
            </a:endParaRPr>
          </a:p>
        </p:txBody>
      </p:sp>
      <p:sp>
        <p:nvSpPr>
          <p:cNvPr id="1674" name="PlaceHolder 2"/>
          <p:cNvSpPr>
            <a:spLocks noGrp="1"/>
          </p:cNvSpPr>
          <p:nvPr>
            <p:ph/>
          </p:nvPr>
        </p:nvSpPr>
        <p:spPr>
          <a:xfrm>
            <a:off x="456840" y="1828440"/>
            <a:ext cx="8147160" cy="4768920"/>
          </a:xfrm>
          <a:prstGeom prst="rect">
            <a:avLst/>
          </a:prstGeom>
          <a:solidFill>
            <a:srgbClr val="000033"/>
          </a:solidFill>
          <a:ln w="0">
            <a:noFill/>
          </a:ln>
        </p:spPr>
        <p:txBody>
          <a:bodyPr lIns="90000" rIns="90000" tIns="46800" bIns="46800" anchor="t">
            <a:normAutofit/>
          </a:bodyPr>
          <a:p>
            <a:pPr marL="469800" indent="-469800">
              <a:lnSpc>
                <a:spcPct val="8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a7d2df"/>
                </a:solidFill>
                <a:latin typeface="Times New Roman"/>
              </a:rPr>
              <a:t>Il primo mito si ricollega ad un re sumero vissuto ad Uruk intorno al 2700 a.C., che sperimenta l'esperienza della mortalità umana e compie un viaggio verso la conoscenza perfetta.</a:t>
            </a:r>
            <a:br>
              <a:rPr sz="3200"/>
            </a:br>
            <a:r>
              <a:rPr b="1" lang="it-IT" sz="3200" spc="-1" strike="noStrike">
                <a:solidFill>
                  <a:srgbClr val="a7d2df"/>
                </a:solidFill>
                <a:latin typeface="Times New Roman"/>
              </a:rPr>
              <a:t>Tra le sue imprese avrebbe ucciso un toro divino, inviato sulla terra dalla dea </a:t>
            </a:r>
            <a:r>
              <a:rPr b="1" i="1" lang="it-IT" sz="3200" spc="-1" strike="noStrike">
                <a:solidFill>
                  <a:srgbClr val="a7d2df"/>
                </a:solidFill>
                <a:latin typeface="Times New Roman"/>
              </a:rPr>
              <a:t>Ishtar</a:t>
            </a:r>
            <a:r>
              <a:rPr b="1" lang="it-IT" sz="3200" spc="-1" strike="noStrike">
                <a:solidFill>
                  <a:srgbClr val="a7d2df"/>
                </a:solidFill>
                <a:latin typeface="Times New Roman"/>
              </a:rPr>
              <a:t>, che opprimeva il proprio popolo.</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2e36"/>
        </a:solidFill>
      </p:bgPr>
    </p:bg>
    <p:spTree>
      <p:nvGrpSpPr>
        <p:cNvPr id="1" name=""/>
        <p:cNvGrpSpPr/>
        <p:nvPr/>
      </p:nvGrpSpPr>
      <p:grpSpPr>
        <a:xfrm>
          <a:off x="0" y="0"/>
          <a:ext cx="0" cy="0"/>
          <a:chOff x="0" y="0"/>
          <a:chExt cx="0" cy="0"/>
        </a:xfrm>
      </p:grpSpPr>
      <p:sp>
        <p:nvSpPr>
          <p:cNvPr id="1675"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e3"/>
                </a:solidFill>
                <a:latin typeface="Times New Roman"/>
              </a:rPr>
              <a:t>&lt;footer&gt;</a:t>
            </a:r>
            <a:endParaRPr b="0" lang="en-US" sz="1000" spc="-1" strike="noStrike">
              <a:solidFill>
                <a:srgbClr val="ffffff"/>
              </a:solidFill>
              <a:latin typeface="Times New Roman"/>
            </a:endParaRPr>
          </a:p>
        </p:txBody>
      </p:sp>
      <p:sp>
        <p:nvSpPr>
          <p:cNvPr id="1676" name=""/>
          <p:cNvSpPr txBox="1"/>
          <p:nvPr/>
        </p:nvSpPr>
        <p:spPr>
          <a:xfrm>
            <a:off x="456840" y="6248520"/>
            <a:ext cx="1676520" cy="45720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e3"/>
                </a:solidFill>
                <a:latin typeface="Times New Roman"/>
              </a:rPr>
              <a:t>&lt;date/time&gt;</a:t>
            </a:r>
            <a:endParaRPr b="0" lang="en-US" sz="1000" spc="-1" strike="noStrike">
              <a:solidFill>
                <a:srgbClr val="ffffff"/>
              </a:solidFill>
              <a:latin typeface="Times New Roman"/>
            </a:endParaRPr>
          </a:p>
        </p:txBody>
      </p:sp>
      <p:sp>
        <p:nvSpPr>
          <p:cNvPr id="1677" name="PlaceHolder 1"/>
          <p:cNvSpPr>
            <a:spLocks noGrp="1"/>
          </p:cNvSpPr>
          <p:nvPr>
            <p:ph/>
          </p:nvPr>
        </p:nvSpPr>
        <p:spPr>
          <a:xfrm>
            <a:off x="457200" y="549360"/>
            <a:ext cx="8229600" cy="6308640"/>
          </a:xfrm>
          <a:prstGeom prst="rect">
            <a:avLst/>
          </a:prstGeom>
          <a:solidFill>
            <a:srgbClr val="ffcc00"/>
          </a:solidFill>
          <a:ln w="0">
            <a:noFill/>
          </a:ln>
        </p:spPr>
        <p:txBody>
          <a:bodyPr lIns="90000" rIns="90000" tIns="46800" bIns="46800" anchor="t">
            <a:normAutofit/>
          </a:bodyPr>
          <a:p>
            <a:pPr marL="469800" indent="-469800">
              <a:lnSpc>
                <a:spcPct val="8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62e36"/>
                </a:solidFill>
                <a:latin typeface="Times New Roman"/>
              </a:rPr>
              <a:t>il primo mito si collega alla tradizione numerica,secondo la quale </a:t>
            </a:r>
            <a:r>
              <a:rPr b="1" i="1" lang="it-IT" sz="3200" spc="-1" strike="noStrike">
                <a:solidFill>
                  <a:srgbClr val="162e36"/>
                </a:solidFill>
                <a:latin typeface="Times New Roman"/>
              </a:rPr>
              <a:t>An</a:t>
            </a:r>
            <a:r>
              <a:rPr b="1" lang="it-IT" sz="3200" spc="-1" strike="noStrike">
                <a:solidFill>
                  <a:srgbClr val="162e36"/>
                </a:solidFill>
                <a:latin typeface="Times New Roman"/>
              </a:rPr>
              <a:t> sovrintendeva tutto  il cielo,mentre  </a:t>
            </a:r>
            <a:r>
              <a:rPr b="1" i="1" lang="it-IT" sz="3200" spc="-1" strike="noStrike">
                <a:solidFill>
                  <a:srgbClr val="162e36"/>
                </a:solidFill>
                <a:latin typeface="Times New Roman"/>
              </a:rPr>
              <a:t>Enlil</a:t>
            </a:r>
            <a:r>
              <a:rPr b="1" lang="it-IT" sz="3200" spc="-1" strike="noStrike">
                <a:solidFill>
                  <a:srgbClr val="162e36"/>
                </a:solidFill>
                <a:latin typeface="Times New Roman"/>
              </a:rPr>
              <a:t> ed </a:t>
            </a:r>
            <a:r>
              <a:rPr b="1" i="1" lang="it-IT" sz="3200" spc="-1" strike="noStrike">
                <a:solidFill>
                  <a:srgbClr val="162e36"/>
                </a:solidFill>
                <a:latin typeface="Times New Roman"/>
              </a:rPr>
              <a:t>Enki</a:t>
            </a:r>
            <a:r>
              <a:rPr b="1" lang="it-IT" sz="3200" spc="-1" strike="noStrike">
                <a:solidFill>
                  <a:srgbClr val="162e36"/>
                </a:solidFill>
                <a:latin typeface="Times New Roman"/>
              </a:rPr>
              <a:t>, suoi figli, regnavano sulla terra e sugli abissi. Il primo aveva più potere del fratello, che aveva come figlio </a:t>
            </a:r>
            <a:r>
              <a:rPr b="1" i="1" lang="it-IT" sz="3200" spc="-1" strike="noStrike">
                <a:solidFill>
                  <a:srgbClr val="162e36"/>
                </a:solidFill>
                <a:latin typeface="Times New Roman"/>
              </a:rPr>
              <a:t>Marduk</a:t>
            </a:r>
            <a:r>
              <a:rPr b="1" lang="it-IT" sz="3200" spc="-1" strike="noStrike">
                <a:solidFill>
                  <a:srgbClr val="162e36"/>
                </a:solidFill>
                <a:latin typeface="Times New Roman"/>
              </a:rPr>
              <a:t>. </a:t>
            </a:r>
            <a:r>
              <a:rPr b="1" i="1" lang="it-IT" sz="3200" spc="-1" strike="noStrike">
                <a:solidFill>
                  <a:srgbClr val="162e36"/>
                </a:solidFill>
                <a:latin typeface="Times New Roman"/>
              </a:rPr>
              <a:t>An</a:t>
            </a:r>
            <a:r>
              <a:rPr b="1" lang="it-IT" sz="3200" spc="-1" strike="noStrike">
                <a:solidFill>
                  <a:srgbClr val="162e36"/>
                </a:solidFill>
                <a:latin typeface="Times New Roman"/>
              </a:rPr>
              <a:t> crea gli altri dei per lavorare sulla terra, al fine di poter mangiare, ma questi si rifiutano, perché troppo faticoso. Quindi crea l’uomo che rifiuta anche esso di lavorare. a questo punto, </a:t>
            </a:r>
            <a:r>
              <a:rPr b="1" i="1" lang="it-IT" sz="3200" spc="-1" strike="noStrike">
                <a:solidFill>
                  <a:srgbClr val="162e36"/>
                </a:solidFill>
                <a:latin typeface="Times New Roman"/>
              </a:rPr>
              <a:t>Enlil</a:t>
            </a:r>
            <a:r>
              <a:rPr b="1" lang="it-IT" sz="3200" spc="-1" strike="noStrike">
                <a:solidFill>
                  <a:srgbClr val="162e36"/>
                </a:solidFill>
                <a:latin typeface="Times New Roman"/>
              </a:rPr>
              <a:t> propone di mandare sulla terra la pestilenza ed il diluvio per punire la ribellione umana,ma enki riesce a dissuaderlo dal suo intento di distruzi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8" name="PlaceHolder 1"/>
          <p:cNvSpPr>
            <a:spLocks noGrp="1"/>
          </p:cNvSpPr>
          <p:nvPr>
            <p:ph type="title"/>
          </p:nvPr>
        </p:nvSpPr>
        <p:spPr>
          <a:xfrm>
            <a:off x="-360" y="301680"/>
            <a:ext cx="7380360" cy="12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Black"/>
              </a:rPr>
              <a:t>Festa del nuovo anno</a:t>
            </a:r>
            <a:endParaRPr b="0" lang="en-US" sz="4400" spc="-1" strike="noStrike">
              <a:solidFill>
                <a:srgbClr val="ffffff"/>
              </a:solidFill>
              <a:latin typeface="Arial Black"/>
            </a:endParaRPr>
          </a:p>
        </p:txBody>
      </p:sp>
      <p:sp>
        <p:nvSpPr>
          <p:cNvPr id="1679" name="PlaceHolder 2"/>
          <p:cNvSpPr>
            <a:spLocks noGrp="1"/>
          </p:cNvSpPr>
          <p:nvPr>
            <p:ph/>
          </p:nvPr>
        </p:nvSpPr>
        <p:spPr>
          <a:xfrm>
            <a:off x="685800" y="1483920"/>
            <a:ext cx="7772400" cy="5040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Arial Black"/>
              </a:rPr>
              <a:t>Ogni anno a Babilonia si celebrava la festa del </a:t>
            </a:r>
            <a:r>
              <a:rPr b="0" i="1" lang="it-IT" sz="2800" spc="-1" strike="noStrike">
                <a:solidFill>
                  <a:srgbClr val="ffcc00"/>
                </a:solidFill>
                <a:latin typeface="Arial Black"/>
              </a:rPr>
              <a:t>Nuovo Anno</a:t>
            </a:r>
            <a:r>
              <a:rPr b="0" lang="it-IT" sz="2800" spc="-1" strike="noStrike">
                <a:solidFill>
                  <a:srgbClr val="ffcc00"/>
                </a:solidFill>
                <a:latin typeface="Arial Black"/>
              </a:rPr>
              <a:t>. Il mito della rinascita è sempre presente nelle religioni orientali. Solo il re poteva cominciare la festa ed era accompagnato dai sacerdoti. Ad un certo punto della festa il gran sacerdote schiaffeggiava il re, per ricordargli di essere umano: se questi piangeva, il dio </a:t>
            </a:r>
            <a:r>
              <a:rPr b="0" i="1" lang="it-IT" sz="2800" spc="-1" strike="noStrike">
                <a:solidFill>
                  <a:srgbClr val="ffcc00"/>
                </a:solidFill>
                <a:latin typeface="Arial Black"/>
              </a:rPr>
              <a:t>Marduk</a:t>
            </a:r>
            <a:r>
              <a:rPr b="0" lang="it-IT" sz="2800" spc="-1" strike="noStrike">
                <a:solidFill>
                  <a:srgbClr val="ffcc00"/>
                </a:solidFill>
                <a:latin typeface="Arial Black"/>
              </a:rPr>
              <a:t> concedeva all’impero un anno prosperoso, altrimenti vi erano dei presagi nefasti.</a:t>
            </a:r>
            <a:br>
              <a:rPr sz="2800"/>
            </a:br>
            <a:br>
              <a:rPr sz="2800"/>
            </a:br>
            <a:r>
              <a:rPr b="0" lang="it-IT" sz="2800" spc="-1" strike="noStrike">
                <a:solidFill>
                  <a:srgbClr val="ffcc00"/>
                </a:solidFill>
                <a:latin typeface="Arial Black"/>
              </a:rPr>
              <a:t> </a:t>
            </a:r>
            <a:endParaRPr b="0" lang="en-US" sz="28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Black"/>
              </a:rPr>
              <a:t>Alcuni esempi di artigianato assiro-babilonese</a:t>
            </a:r>
            <a:endParaRPr b="0" lang="en-US" sz="3200" spc="-1" strike="noStrike">
              <a:solidFill>
                <a:srgbClr val="ffffff"/>
              </a:solidFill>
              <a:latin typeface="Arial Black"/>
            </a:endParaRPr>
          </a:p>
        </p:txBody>
      </p:sp>
      <p:sp>
        <p:nvSpPr>
          <p:cNvPr id="16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80808"/>
                </a:solidFill>
                <a:latin typeface="Arial Black"/>
              </a:rPr>
              <a:t>Tavolette eblaite</a:t>
            </a:r>
            <a:r>
              <a:rPr b="0" lang="it-IT" sz="3200" spc="-1" strike="noStrike">
                <a:solidFill>
                  <a:srgbClr val="080808"/>
                </a:solidFill>
                <a:latin typeface="Arial Black"/>
              </a:rPr>
              <a:t>      </a:t>
            </a:r>
            <a:r>
              <a:rPr b="0" lang="it-IT" sz="2400" spc="-1" strike="noStrike">
                <a:solidFill>
                  <a:srgbClr val="080808"/>
                </a:solidFill>
                <a:latin typeface="Arial Black"/>
              </a:rPr>
              <a:t>gioielli da una tomba di ur</a:t>
            </a:r>
            <a:r>
              <a:rPr b="0" lang="it-IT" sz="3200" spc="-1" strike="noStrike">
                <a:solidFill>
                  <a:srgbClr val="ffcc00"/>
                </a:solidFill>
                <a:latin typeface="Arial Black"/>
              </a:rPr>
              <a: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80808"/>
                </a:solidFill>
                <a:latin typeface="Arial Black"/>
              </a:rPr>
              <a:t>Bassorilievi:   il dio sole              un carro ittita</a:t>
            </a:r>
            <a:r>
              <a:rPr b="0" lang="it-IT" sz="3200" spc="-1" strike="noStrike">
                <a:solidFill>
                  <a:srgbClr val="ffcc00"/>
                </a:solidFill>
                <a:latin typeface="Arial Black"/>
              </a:rPr>
              <a:t>      </a:t>
            </a:r>
            <a:endParaRPr b="0" lang="en-US" sz="3200" spc="-1" strike="noStrike">
              <a:solidFill>
                <a:srgbClr val="ffcc00"/>
              </a:solidFill>
              <a:latin typeface="Arial Black"/>
            </a:endParaRPr>
          </a:p>
        </p:txBody>
      </p:sp>
      <p:pic>
        <p:nvPicPr>
          <p:cNvPr id="1682" name="" descr=""/>
          <p:cNvPicPr/>
          <p:nvPr/>
        </p:nvPicPr>
        <p:blipFill>
          <a:blip r:embed="rId1"/>
          <a:stretch/>
        </p:blipFill>
        <p:spPr>
          <a:xfrm>
            <a:off x="2268360" y="2565360"/>
            <a:ext cx="1656000" cy="1324080"/>
          </a:xfrm>
          <a:prstGeom prst="rect">
            <a:avLst/>
          </a:prstGeom>
          <a:ln w="0">
            <a:noFill/>
          </a:ln>
        </p:spPr>
      </p:pic>
      <p:pic>
        <p:nvPicPr>
          <p:cNvPr id="1683" name="" descr=""/>
          <p:cNvPicPr/>
          <p:nvPr/>
        </p:nvPicPr>
        <p:blipFill>
          <a:blip r:embed="rId2"/>
          <a:stretch/>
        </p:blipFill>
        <p:spPr>
          <a:xfrm>
            <a:off x="6156360" y="2565360"/>
            <a:ext cx="2077920" cy="1871640"/>
          </a:xfrm>
          <a:prstGeom prst="rect">
            <a:avLst/>
          </a:prstGeom>
          <a:ln w="0">
            <a:noFill/>
          </a:ln>
        </p:spPr>
      </p:pic>
      <p:pic>
        <p:nvPicPr>
          <p:cNvPr id="1684" name="" descr=""/>
          <p:cNvPicPr/>
          <p:nvPr/>
        </p:nvPicPr>
        <p:blipFill>
          <a:blip r:embed="rId3"/>
          <a:stretch/>
        </p:blipFill>
        <p:spPr>
          <a:xfrm>
            <a:off x="250920" y="3500280"/>
            <a:ext cx="1717560" cy="1657440"/>
          </a:xfrm>
          <a:prstGeom prst="rect">
            <a:avLst/>
          </a:prstGeom>
          <a:ln w="0">
            <a:noFill/>
          </a:ln>
        </p:spPr>
      </p:pic>
      <p:pic>
        <p:nvPicPr>
          <p:cNvPr id="1685" name="" descr=""/>
          <p:cNvPicPr/>
          <p:nvPr/>
        </p:nvPicPr>
        <p:blipFill>
          <a:blip r:embed="rId4"/>
          <a:stretch/>
        </p:blipFill>
        <p:spPr>
          <a:xfrm>
            <a:off x="7740720" y="5410080"/>
            <a:ext cx="1209600" cy="14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7:12:11Z</dcterms:created>
  <dc:creator>LISA</dc:creator>
  <dc:description/>
  <dc:language>en-US</dc:language>
  <cp:lastModifiedBy>LISA</cp:lastModifiedBy>
  <dcterms:modified xsi:type="dcterms:W3CDTF">2008-10-24T16:04:46Z</dcterms:modified>
  <cp:revision>12</cp:revision>
  <dc:subject/>
  <dc:title>LA STORIA DEGLI ASSIRI</dc:title>
</cp:coreProperties>
</file>